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468FC-FCAD-4E15-AC90-D8B862C5B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7A82-C9A7-4275-806C-59F86200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6F2F4-6FBD-4DF9-9DFD-855D78735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E943-7FF6-4353-8205-4E93D9C7F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2B77-E20B-48C4-B9E7-476974686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6029-E903-487D-B373-7EE4DEE2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1AB79-DED7-456C-A272-4293F81A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0A0B-0A7D-4EED-8649-372CCAD0C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43D0C-779B-4A43-9D48-2B70BFC98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960D-98EC-46B7-A438-D236972FE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3CEB-1A6A-4743-AF35-1085680B6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CE8B9-F293-4A38-93E9-C1D434ECD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D5E46-420E-4D02-9B7E-CFAAB2A68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79280" y="1052640"/>
            <a:ext cx="87487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hree stages of CD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also applicable to MA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roblem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ub-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378936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roblem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79280" y="4581360"/>
            <a:ext cx="867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teratively hierarchically decompo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verall problem in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maller sub-probl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agent can solv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decomposition level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ifferent levels of abst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79280" y="3500280"/>
            <a:ext cx="820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105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roblem decom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628640"/>
            <a:ext cx="8675640" cy="27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: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Decomposition granularity.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E.g.: ACTOR system (see [1]) decomposed problem until sub-problems are at the level of programming language command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oo fine grained.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blems with synthesis, management overhead etc. outweigh decomposition advant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ingle decomposition insta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vs.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llaborative decompos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mpetenc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f agents must be kn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797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ub-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9280" y="55166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ing of inform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ing sub-problem 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79280" y="4653000"/>
            <a:ext cx="8425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05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Solution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50920" y="1628640"/>
            <a:ext cx="8675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y also be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hierarchical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respecting different levels of abstrac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220500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2492280"/>
            <a:ext cx="86421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order to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apply CDPS stag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e basically need: </a:t>
            </a:r>
            <a:br>
              <a:rPr sz="2200"/>
            </a:b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task sharing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(for problem decomposition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i="1" lang="en-US" sz="2200" spc="-1" strike="noStrike">
                <a:solidFill>
                  <a:srgbClr val="ff3300"/>
                </a:solidFill>
                <a:latin typeface="Arial"/>
              </a:rPr>
              <a:t>result sharing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(for solution computation and synthesis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393372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ask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4724280"/>
            <a:ext cx="8424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ask sharing: Decompose problem and allocate sub-problems to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mogeneous agents: Allo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rivi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agent can do any sub-problem ta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50920" y="134136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ask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191628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homogeneous agen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cation throug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eaching agre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ee chapter 6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3139920"/>
            <a:ext cx="8280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3500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esul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149720"/>
            <a:ext cx="84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share result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e information relevant to sub-problem-solution; eithe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oact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ctiv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on reques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9280" y="1700280"/>
            <a:ext cx="842508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tocol for task sharing (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oblem distribution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ong communicating problem solvers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); basic modelling metaphor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ntra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 concerns: distributed control, achieving reliability, avoiding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CN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50920" y="105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76720" y="3933720"/>
            <a:ext cx="457200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ogni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ou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ward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d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79280" y="1773360"/>
            <a:ext cx="842508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sk generating not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ask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advertises task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th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task announcemen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knowledge about agent capabiliti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general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bset of agents  known to be cap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limited broadc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agents known to be cap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oint-to-point-announc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79280" y="981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0920" y="5661000"/>
            <a:ext cx="780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evaluate task announcements; if suit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 issu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1538280"/>
            <a:ext cx="84250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r evaluates bids; selects most appropriate agent; send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ward messag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winner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ontra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act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edites t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may generate further sub-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task completion, contractor send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eport</a:t>
            </a:r>
            <a:br>
              <a:rPr sz="2400"/>
            </a:b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alternative for manager: directly send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direct contra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out announcement, bid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ceiving agent may accept or 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pplementary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ormation mess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municating information)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quest mess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llowed by information msg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98100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24000" y="3716280"/>
            <a:ext cx="7489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1676520"/>
            <a:ext cx="84250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ask announcement process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decides if it‘s capable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lig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for task by evaluating eligibility specification of task announcement. If eligi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ails of task are sto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d process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fter issuing announcement, manager accepts bids for limited amount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ward process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sers delete task details. Winner starts task execu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need to decompose task into sub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quest/Inform process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fo is not immediately available, agent informs requestor that info is unknown; inform msg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d info to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105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9280" y="1628640"/>
            <a:ext cx="842508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way transfer of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cal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tual selection (bidders select from among task announcements, managers select from among bi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9280" y="1052640"/>
            <a:ext cx="80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 --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4437000"/>
            <a:ext cx="856944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NET views transfer of control as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runtime, symmetri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rocess involving transfer of complex information in order to be effec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 mechanisms (procedure invocation, production rules, pattern directed invocation, blackboards) are unidirectional, minimally run-time sensitive, and have restricted communic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3789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NET vs. other mechanisms for transfer of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3645000"/>
            <a:ext cx="82090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79280" y="1773360"/>
            <a:ext cx="8425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fore sub-problems can be distributed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nouncements can be made), problem decomposition needs to be performed (highly non-triv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produces overhead, is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must have right granularity (rather coar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gnition stage (agent realizes that it needs help with a problem) is not explicitly cover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1052640"/>
            <a:ext cx="89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he Contract Net Protocol (CNET) – Limitations (not drawba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1676520"/>
            <a:ext cx="842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ult sharing: Agen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ly exchange result inf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solution is developed. In the course of communication, simple results may be combined into more abstract resul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79280" y="105264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Resul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292428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79280" y="3500280"/>
            <a:ext cx="878544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ased confid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result cross check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creased correctness (errors can be more easily detect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aring local info giv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re comple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obal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ased precis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results (less errors, more detail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imeli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Result sharing may improve speed of problem solution through parallelization, distinct competences / knowledge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9280" y="1844640"/>
            <a:ext cx="842508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ELINE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Woolridge (see [1])): Cooperating expert system (MAS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ductive problem-sol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ha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tin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ledge and „expertise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cooperate b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haring knowled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istributing subtas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: Rule-based syste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atabase with facts and rules); Furthermore: database with beliefs about self and environment (environment model); all databas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ymbolic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mpare earlier chap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928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mbining Task Sharing and Result Sharing -- F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9280" y="1844640"/>
            <a:ext cx="8425080" cy="427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vironment mode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tains for every agent symbolic representation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kil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ypotheses which agent is able to establish or deny (skills roughly correspon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oot 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ference network representing agent‘s experti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es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ypotheses for which agent requires truth value (interests roughly correspond t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af nod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the inference network representing agent‘s expertis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mbining Task Sharing and Result Sharing -- F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79280" y="1844640"/>
            <a:ext cx="8425080" cy="37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ree message typ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ques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der wants receiver to determine truth value of contained hypo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pon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o request) Contains corresp. truth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form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 hypothesis and truth value. For agents that are assumed to be inter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7928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mbining Task Sharing and Result Sharing -- F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9280" y="1844640"/>
            <a:ext cx="842508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rt. reasoning in rule-based systems, two approaches ex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al driven reasoning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hypothesis, recursively descend in inference graph (graph of FOL formulas a_i, edges: (a_i,a_j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 E if according to database-rule the truth of a_i is necessary for the truth of a_j) until all conditions for hypothesis (leafs) are proved or need to be asked from someone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a driven reason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rt from facts; use rules to generate new facts and repeat process until hypothesis shows up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7928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mbining Task Sharing and Result Sharing -- F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1 Task Sharing and Result Sharing X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24000" y="1628640"/>
            <a:ext cx="84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ELINE: goal driven reasoning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ask sharing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data driven reasoning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esul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105264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mbining Task Sharing and Result Sharing -- F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4000" y="2781360"/>
            <a:ext cx="856908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al driven ca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gent arrives at leaf a and cannot determine truth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 agents with skills corresponding to a are ask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ask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a driven cas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new fact derived in the iterative process is communicated to all agents who have fact as interest. Receiving agent then starts data driven evaluation it self etc.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esult sh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2 Handling Inconsistency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268280"/>
            <a:ext cx="8424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onsistenc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agents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belief-inconsist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due to fact that no agent has complete picture, or faulty sensors etc.) 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al/intention-inconsisten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ypical of self-interested ag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rategi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allow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cies or at lea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gno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(E.g. in contract net, task sharing is initiated and governed by single manager ag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ly his view mat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nsistencies throug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egoti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pensive, large overhead,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systems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grade gracefu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he presence of inconsist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2 Handling Inconsistency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50920" y="1052640"/>
            <a:ext cx="889308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ystems that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degrade gracefully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e presence of inconsistencies are called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functionally accurate / coopera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A/C)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sser &amp; Corkill (see [1]) suggest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haracteristics of FA/C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ystem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llaborative problem solving progresses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opportunistic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whenever opportunities arise) (not constrained to stiff sequences) and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incrementall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gradually piecing together solu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gents should exchange high level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intermediate resul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and not raw dat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certainties and inconsistencies should be resolved in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a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roblem solving progress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t in the beginning or at the e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lution finding not constrained to single route; if one fails,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alternative route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be the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50920" y="1341360"/>
            <a:ext cx="8893080" cy="48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ordination: Managing inter-dependencies between the activities of ag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Examples of interdependenci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2 people want to go through the same do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cannot proceed with my work until you have given your o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 make you a copy of an interesting paper without being asked to do 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rdependencies can be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negativ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ositive relationship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benefits for at least one of the agents while leaving others at least as happy (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pareto-optimality) may be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requeste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non requested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105264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van Martial‘s (see [1]) typology of coordination task interdependen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3440" y="3573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-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end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97080" y="486900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268360" y="2997360"/>
            <a:ext cx="21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57800" y="450864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quested (explic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357800" y="5365800"/>
            <a:ext cx="143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requested (implic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284720" y="242100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357800" y="37162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compat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84720" y="1844640"/>
            <a:ext cx="216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sumable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229440" y="278136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n-consumable re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2341440" y="3428640"/>
            <a:ext cx="100836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341440" y="4005360"/>
            <a:ext cx="863640" cy="863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3925800" y="2781000"/>
            <a:ext cx="129564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25800" y="3213000"/>
            <a:ext cx="1366920" cy="503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942160" y="2708280"/>
            <a:ext cx="431640" cy="289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5942160" y="2276280"/>
            <a:ext cx="647640" cy="431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3710160" y="4868640"/>
            <a:ext cx="718920" cy="144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710160" y="5013360"/>
            <a:ext cx="934920" cy="576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9 Working Togeth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119700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van Martial‘s (see [1]) typology of coordination task interdependen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2492280"/>
            <a:ext cx="882000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ree types of non-requested interdependenc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on-equality-interdepend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agents need to have action a don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e of them can do 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sequence-interdependenc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of one agent‘s plan have side effect of achieving other agent‘s go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avor-interdependence: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s of one agent‘s plan have side effect of partially achieving other agent‘s goal (positively contributing to i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79280" y="1052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artial global planning (P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700280"/>
            <a:ext cx="882036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fee (see [1])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GP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exchange info to reach conclusions about problem-solving 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ti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nning because MAS is not required to deliver complete solution,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glob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cause agents exchange local plans to achieve a global solution (plan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3 iterated stage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gent decides about his goals, creates local pl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exchange plans to determine interdependenc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lter local plans to achieve better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79280" y="105264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artial global planning (P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24000" y="1844640"/>
            <a:ext cx="8208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‘s plans are incorporated int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ata-structure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artial global pla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Objectiv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overall goal, the MAS works tow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ctivity map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gents are currently doing, what the result of their current action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Solution construction grap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resentation of when and how agents should interact; what info should be exchanged, when overall solution is assembl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981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Partial global planning (PG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24000" y="1628640"/>
            <a:ext cx="82087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ker (see [1]) formulated improvement-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pdate local viewpoi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global viewpoint may be reac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unicate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ve simple redunda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everal agents to the sam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elect one at rando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olve hard (negative) interdepend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rough rescheduling partial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se soft (positive) interdependenc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possibly rescheduling partial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79280" y="981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through joint int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628640"/>
            <a:ext cx="820872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ntions (committed goals) were important for practical reasoning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s also important for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E.g. knowing that I want to reduce weight anybody can rule out interdependencies wrt. to eating cream-cak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: distinguish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dividual int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at may be coordinated) fro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s to cooperatively and coordinatedly achieve a go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 a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ssociated with an intention: Future directed, persistent, should not be dropped for no reas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v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ist that regulate when it‘s appropriate to drop an intention. E.g.: when lifting a heavy object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9280" y="981000"/>
            <a:ext cx="842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through joint inten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844640"/>
            <a:ext cx="8208720" cy="43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ne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dividual commit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oint commi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overall go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oint commit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distributed over ag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gulates e.g. when joint commitment may be dropped and how other agents need to be informed about change of min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formally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Joint persistant go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JPGs)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regard terminological inconsistency: before we had: goals, beliefs, intentions (committed goal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PG =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go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φ, motivation for goal ψ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. E.g.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= „having heavy object lifted onto truck“; ψ = „later transportatio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2565360"/>
            <a:ext cx="8208720" cy="378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itially each agent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v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φ has not been satsif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believes possibleToDo 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ti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termination con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met, each ag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has goal φ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(more precisely intention φ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ermination condition: It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utually belie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t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 i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φ is im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ψ is no longer val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through joint intentions -- J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24000" y="1700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ve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24000" y="2565360"/>
            <a:ext cx="820872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termination condition is m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 agent believes that ei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met 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goal is impossible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otivation no longer hol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has the goal to make th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utually believ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the goal to convince all others about tha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through joint intentions -- J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5440" y="1773360"/>
            <a:ext cx="212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nven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24000" y="1844640"/>
            <a:ext cx="820872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JPG-like architectures: ARCHON (Jennings (see [1])) and Steam (Tambe (see [1]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th encode conventions formally as rules, thus integrating them into the „normal“ reasoning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through joint intentions -- JP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84360" y="4005360"/>
            <a:ext cx="2808000" cy="251928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067280" y="3933720"/>
            <a:ext cx="3313080" cy="2590920"/>
          </a:xfrm>
          <a:prstGeom prst="rect">
            <a:avLst/>
          </a:pr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95280" y="1844640"/>
            <a:ext cx="820908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Recall stages of CDPS from beginning.). Now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DPS-mode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cused 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eam-work-based coordin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1) Recogni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has go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alizes potential for cooperative action wrt. goal. Ca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 is not able to make it alo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sufficient capabilities or information) (E.g.: lifting heavy obj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 can make it alone but cooperative solution is prefera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ore accurate etc. or execution alone would interfere with other goals (E.g.: lifting possible but with back injury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eamwork-based model of C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341360"/>
            <a:ext cx="8964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ain issue of MAS untreated so far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llaboration, Coordinatio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petition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Distin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“traditional”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istributed Syst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s are self-interes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teractions resembl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ga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s: Decision making and coordination and collaboration dynamically a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run-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vs. at design time in D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24000" y="1844640"/>
            <a:ext cx="820872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2) Team form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uccessful, team is established and has commitment to coll. goal. (Commitment to ends, not to means)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tage corresponds to collective deliberation (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chapter 6 (Reaching agreements))</a:t>
            </a:r>
            <a:br>
              <a:rPr sz="1800"/>
            </a:br>
            <a:br>
              <a:rPr sz="18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3) Plan form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stablished through negotiation or argumentation (see chapter 6)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mitment to means)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4) Team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Joint plan is executed. Execution is governed by conventions (e.g. as in JP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Teamwork-based model of C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24000" y="1844640"/>
            <a:ext cx="82087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del of other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beliefs, intentions, goals) and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conv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nabl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rdination without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 Man and woman approach do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source confli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ossible solution: both wai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aste of resour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knowing usual convention and having a model of each other („other agent is conservatively polite“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oman will go fir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could be induced b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ame-theoretic payoff-matri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 will know rational ac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 system: MACE (see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by mutual mode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24000" y="1844640"/>
            <a:ext cx="8208720" cy="359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uman 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e have norms and laws for coordination. Example (arguable): natural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ftware 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ven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an be implemen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design time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ffline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(easier, more straightforward, more direct contro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mergent behavi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ore flexible in unforseeable environments, producing possibly better coherence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052640"/>
            <a:ext cx="84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by social norms and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833480"/>
            <a:ext cx="889308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iculty for each agent: Establish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lobal conven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n the basi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cal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-Shirt g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MAS, each agent can wear red or blue t-shirt. Goal: all agents wear same color; In each iteration: agent sees only one other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rategy update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trategy = t-shirt colo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imple majorit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: change from strategy s1 to s2 if more agents with s2 were see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imple majority with agent type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wrt. strategy) and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mmun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exchange of complete memory with agents of same type) (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broadening their statistical basis for majority decis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9280" y="9079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by social norms and laws – </a:t>
            </a:r>
            <a:br>
              <a:rPr sz="2400"/>
            </a:b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Emergent norms and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.3 Coordination X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989000"/>
            <a:ext cx="8893080" cy="281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rategy update func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continu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Simple majority with communica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on succes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When agent has reached certain success-level with current strategy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communicate memory related to successful strategies to other agents (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only successful strategies are communicate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Highest cumulative reward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cord payoff of current strategy; choose strategy with highest cumulative payo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79280" y="907920"/>
            <a:ext cx="842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ordination by social norms and laws – </a:t>
            </a:r>
            <a:br>
              <a:rPr sz="2400"/>
            </a:b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Emergent norms and la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508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fficiency of strategy update fu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d e.g. by convergence time in t-shirt game. Experiments: all strategies were success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4000" y="2852640"/>
            <a:ext cx="882000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5] J. Rosenschein, Univ. of Jerusalem, Lecture Slides „Introduction to MAS“, available throug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ww.sou.edu/English/Hedges/Sodashop/RCenter/Theory/People/aust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24000" y="981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7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573360"/>
            <a:ext cx="8748720" cy="297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CDPS is concerned (wrt. goals) with investigation of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Problem subdivis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Sub-Problem distribu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Result synthe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Optimization of problem solver coherence (</a:t>
            </a: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see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  <a:ea typeface="Arial"/>
              </a:rPr>
              <a:t>Optimization of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problem solver coordination (</a:t>
            </a: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see lat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82880" y="90792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42920" y="1413000"/>
            <a:ext cx="900108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field of “traditional“ DS: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Cooperative Distributed Problem Solving (CDPS)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contrast to self-interestedness (MAS) we have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benevolence assumption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see chapter 0) (all that matters is overall goal, no conflict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82880" y="981000"/>
            <a:ext cx="102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D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42920" y="2708280"/>
            <a:ext cx="9001080" cy="397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ither global control nor global data storage — no CDPS problem solver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) has sufficient information to solve entire probl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d data are distrib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ion is slower than comput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se coupling between problem solv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t protocols (not too much communication overhea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s should be modular, coarse grain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1413000"/>
            <a:ext cx="913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these aspects are relevant for agent collaboration as well. In MAS especially interesting 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b-problem distrib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54440" y="2276640"/>
            <a:ext cx="355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DPS – further aspec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79280" y="1106640"/>
            <a:ext cx="87487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istinc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etween CDPS and Parallel Problem Solving (PPS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PS nodes are usual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niform proces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PPS we ha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ingle in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sponsible f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roblem decompos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result synthe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371628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herence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0920" y="350028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365720"/>
            <a:ext cx="87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ifficult: How to ensu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“success” of 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? (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mergence effects hard to desig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riteri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o cons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h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05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herence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79280" y="1916280"/>
            <a:ext cx="8748720" cy="341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herenc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ers to “how well the MAS behaves as a unit along some dimension of evaluation” (Bond et al (see [1])). Coherence may be measured in terms o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lution qu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source us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ceptual clarity of op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erformance degrad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unexpected failure occ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9 Working Together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0920" y="1052640"/>
            <a:ext cx="56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cc"/>
                </a:solidFill>
                <a:latin typeface="Arial"/>
              </a:rPr>
              <a:t>Coherence and coord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1916280"/>
            <a:ext cx="87487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ordination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“The degree...to which [the agents] can avoid ‘extraneous’ activity [such as] ...synchronizing and aligning their activities” (Bond et al. (see [1]))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or coordin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gents clobber each other’s sub-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Lots of communic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no mutual predictability (e.g. by expressive models of each other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Destructive interfer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37:50Z</dcterms:created>
  <dc:creator>Fridl Bunke</dc:creator>
  <dc:description/>
  <dc:language>en-US</dc:language>
  <cp:lastModifiedBy>georg</cp:lastModifiedBy>
  <dcterms:modified xsi:type="dcterms:W3CDTF">2006-09-19T13:14:23Z</dcterms:modified>
  <cp:revision>246</cp:revision>
  <dc:subject/>
  <dc:title>Folie 1</dc:title>
</cp:coreProperties>
</file>