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1C26-C3CE-4E60-89D7-5AD49F11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4D7C-EA56-49E0-88E8-282550E3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98FA5-A9EA-42AF-8BE9-C03FCEE43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227C-DD94-4644-893D-B95A2D006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B157-4CDF-49A1-82FB-1EEC7844F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72802-FEC5-4BC3-B0AE-E9EA4E359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DF14-CE2B-4FCF-A1F5-40B2614EA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BDBC-C0D8-4E3C-A86A-ADDE3556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5ECA-2A39-44BF-9DE6-F1582710A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3E06A-3D92-490B-B276-F059582A4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42C7-E6FF-478D-B71C-04B5CCA9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0005-EC9F-4DB4-A951-53ED091B2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8FD50-61E5-4B6F-8365-861D5B5584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hyperlink" Target="http://www.csc.liv.ac.uk/~mjw/pubs/imas" TargetMode="External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40464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1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ides and Lecture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. Georg Groh, TU-München, Germany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hg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84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se slides are based on the boo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. Woolridge „An Introduction to Multi-Agent-Systems“,  Wiley, 200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48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708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were used in the Lecture “Verteiltes Problemlösen: Software Agenten und Semantic Web”, TU-München, Dept. of Informatics,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93372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can be used for free in any academic teaching scen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72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1 Subsumption Architecture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981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els: Mars Explor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916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dification: Collaborative behavi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95280" y="2563920"/>
            <a:ext cx="874872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obstac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changeDirection                         (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arryingSampl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 Unicode MS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atTheBa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dropSamples          (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carrying Sampl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 Unicode MS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¬ atTheBas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drop_2_Crumbs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travelUpGradient          (3‘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detectSamp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pickUpSample                        (4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senseCrumb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PickUp_1_Crumb 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∧ 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 Unicode MS"/>
              </a:rPr>
              <a:t>travelDownGradient  (6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moveRandomly                               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5229360"/>
            <a:ext cx="842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subsumption hierarchy:  (1)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≺  (2)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 ≺  (3‘)  ≺  (4)  ≺  (6) ≺ 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2 Limitations of Reactiv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79280" y="1052640"/>
            <a:ext cx="8642520" cy="56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l of environment hard wired in rul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symbolic representation and continuing modification of (global) environment model; only (local) percept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an be in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nly local decision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emerg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lobal / long term behavi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ifficult to engine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o established methodologies;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rial and err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gents with many lay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their subsumption hierarch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plex precedence intera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layer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hard to engine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compare difficulties in engineering an ontology with many layers of abstra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lution approach: Evolving agents (e.g. incorporating genetic algorithm evolution in behavio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tificial Lif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5734080"/>
            <a:ext cx="871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332000" y="1989000"/>
            <a:ext cx="7632720" cy="419112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63520" y="3816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3 Hybrid Agen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01480" y="836640"/>
            <a:ext cx="864252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Purely reactive agents lack proactive behavior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Design two sub-systems: One reactive, one proactive.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Combine them to agen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Sub-System: „Layer“. More than two sub-systems possible; „Layered Architecture“ (currently most popular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gent architect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5013360"/>
            <a:ext cx="1584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possible actions suggeste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by each layer,</a:t>
            </a:r>
            <a:br>
              <a:rPr sz="1600"/>
            </a:b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lay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340000" y="63342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940360" y="6359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i="1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-1)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intera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rot="16200000">
            <a:off x="3168000" y="5335920"/>
            <a:ext cx="215640" cy="1729080"/>
          </a:xfrm>
          <a:custGeom>
            <a:avLst/>
            <a:gdLst>
              <a:gd name="textAreaLeft" fmla="*/ 137880 w 215640"/>
              <a:gd name="textAreaRight" fmla="*/ 216000 w 215640"/>
              <a:gd name="textAreaTop" fmla="*/ 45000 h 1729080"/>
              <a:gd name="textAreaBottom" fmla="*/ 1684080 h 1729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6840360" y="4329000"/>
            <a:ext cx="216000" cy="3889440"/>
          </a:xfrm>
          <a:custGeom>
            <a:avLst/>
            <a:gdLst>
              <a:gd name="textAreaLeft" fmla="*/ 137880 w 216000"/>
              <a:gd name="textAreaRight" fmla="*/ 216360 w 216000"/>
              <a:gd name="textAreaTop" fmla="*/ 101160 h 3889440"/>
              <a:gd name="textAreaBottom" fmla="*/ 3788280 h 388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3 Hybrid Agen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1125360"/>
            <a:ext cx="8642160" cy="51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ll layers have input (perceptions) and output (ac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Horizontal layer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Behaviors of lay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ach layer can be viewed as an agent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may conflict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Mediator (overall control func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ust consider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ssible layer interaction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an be bottleneck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Vertical layer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Control flow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erceptions and action suggestions are pass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p (one-pass) or up and then down (two pass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iewer interactions 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Pass: Similar to organization (compa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Vertical layering: not fault tolera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ilure in one lay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ailure of whole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3 Hybrid Agent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9280" y="3933720"/>
            <a:ext cx="864252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Obviously: Horizontal layer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active Layer: Subsumption-Architecture. Example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092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uring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042920" y="1700280"/>
            <a:ext cx="165600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cep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19640" y="1195560"/>
            <a:ext cx="2376360" cy="398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ell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419640" y="1916280"/>
            <a:ext cx="2376360" cy="398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637000"/>
            <a:ext cx="2376360" cy="398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ctive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843280" y="3284640"/>
            <a:ext cx="3600360" cy="398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659640" y="1771560"/>
            <a:ext cx="165564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on sub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2700360" y="1412640"/>
            <a:ext cx="719280" cy="647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00360" y="2060640"/>
            <a:ext cx="7192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00360" y="2060640"/>
            <a:ext cx="719280" cy="792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H="1" flipV="1">
            <a:off x="5795640" y="1412640"/>
            <a:ext cx="863640" cy="718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5795640" y="2131920"/>
            <a:ext cx="863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5795640" y="2131920"/>
            <a:ext cx="863640" cy="792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132000" y="170028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56360" y="1700280"/>
            <a:ext cx="0" cy="158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060720" y="1555920"/>
            <a:ext cx="144360" cy="14256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60720" y="1989000"/>
            <a:ext cx="1443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060720" y="2421000"/>
            <a:ext cx="14436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84720" y="1627200"/>
            <a:ext cx="1447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084720" y="2060640"/>
            <a:ext cx="1447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2494080"/>
            <a:ext cx="144720" cy="1429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51200" y="4941720"/>
            <a:ext cx="72522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rule-1: kerb-avoidance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if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is-in-front(Kerb, Observer) and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speed(Observer) &gt; 0 and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separation(Kerb, Observer) &lt; KerbThreshHold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then</a:t>
            </a:r>
            <a:br>
              <a:rPr sz="1600"/>
            </a:b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1" lang="en-US" sz="1600" spc="-1" strike="noStrike">
                <a:solidFill>
                  <a:srgbClr val="003399"/>
                </a:solidFill>
                <a:latin typeface="Lucida Console"/>
              </a:rPr>
              <a:t>change-orientation(KerbAvoidanceAngl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3 Hybrid Agen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50920" y="1557360"/>
            <a:ext cx="8642160" cy="35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Planning Layer: Long term behavior („day to day“); chooses (sub-)plans out of plan libr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Modeling layer: keeps and modifies environment mode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.g. represents facts about environment (including other agents)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; selects new goals for planning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Control subsystem: exceeds control (e.g. by suppressing information input to certain layers („censorship“)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.g. in order to prevent the triggering of certain ac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 censor ru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ouring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5229360"/>
            <a:ext cx="8867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censor-rule-1: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i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entity(obstacle-6) in perception-buffer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then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	</a:t>
            </a:r>
            <a:r>
              <a:rPr b="0" lang="en-US" sz="1800" spc="-1" strike="noStrike">
                <a:solidFill>
                  <a:srgbClr val="003399"/>
                </a:solidFill>
                <a:latin typeface="Lucida Console"/>
              </a:rPr>
              <a:t>remove-sensory-record(layer-R, entity(obstacle-6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3 Hybrid Agent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484280"/>
            <a:ext cx="8642160" cy="123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Vertically layered,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wo-pass archite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90792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teRR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3276720" y="907920"/>
            <a:ext cx="5540400" cy="3987360"/>
            <a:chOff x="3276720" y="907920"/>
            <a:chExt cx="5540400" cy="3987360"/>
          </a:xfrm>
        </p:grpSpPr>
        <p:sp>
          <p:nvSpPr>
            <p:cNvPr id="143" name=""/>
            <p:cNvSpPr/>
            <p:nvPr/>
          </p:nvSpPr>
          <p:spPr>
            <a:xfrm>
              <a:off x="3276720" y="907920"/>
              <a:ext cx="5540400" cy="330444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755520" y="3513240"/>
              <a:ext cx="465084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55520" y="2814120"/>
              <a:ext cx="191520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423120" y="2814120"/>
              <a:ext cx="198324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755520" y="1987920"/>
              <a:ext cx="191520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6423120" y="1987920"/>
              <a:ext cx="198324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55520" y="1162080"/>
              <a:ext cx="191520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23120" y="1162080"/>
              <a:ext cx="1983240" cy="444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22840" y="1283760"/>
              <a:ext cx="166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peration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205160" y="2109960"/>
              <a:ext cx="101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010400" y="2937240"/>
              <a:ext cx="1390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behavior lay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557760" y="1283760"/>
              <a:ext cx="165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social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21320" y="2109960"/>
              <a:ext cx="189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lanning knowled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723720" y="2937240"/>
              <a:ext cx="123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ld mod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331960" y="3634920"/>
              <a:ext cx="1450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world interf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505760" y="4588200"/>
              <a:ext cx="156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erceptual in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7377840" y="4588200"/>
              <a:ext cx="1306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action outpu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V="1">
              <a:off x="4507920" y="3958200"/>
              <a:ext cx="0" cy="7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80720" y="3958200"/>
              <a:ext cx="0" cy="76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439520" y="32587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918320" y="325908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V="1">
              <a:off x="4439520" y="2432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918320" y="24328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4439520" y="16063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18320" y="160668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V="1">
              <a:off x="7380720" y="3258720"/>
              <a:ext cx="0" cy="25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380720" y="24325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V="1">
              <a:off x="7380720" y="1606320"/>
              <a:ext cx="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670720" y="3004920"/>
              <a:ext cx="75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5670720" y="2178720"/>
              <a:ext cx="75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670720" y="1352520"/>
              <a:ext cx="75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" name=""/>
          <p:cNvSpPr/>
          <p:nvPr/>
        </p:nvSpPr>
        <p:spPr>
          <a:xfrm>
            <a:off x="250920" y="5157720"/>
            <a:ext cx="8424720" cy="19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ehavior laye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ilar t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eactiv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Layer in Touring Mach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lanning laye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to reach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wn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Cooperative Planning layer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nning fo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reach goals; social interaction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620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3 Hybrid Agents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1197000"/>
            <a:ext cx="864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ach layer: Represents world in own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knowledge base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(growing degree of abstraction)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 KB: Raw facts about environment; Planning KB: Plans of own actions; Cooperative KB: (Presumed) plans of other agent’s action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50920" y="692280"/>
            <a:ext cx="828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InteRRa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24000" y="2637000"/>
            <a:ext cx="799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24000" y="4508640"/>
            <a:ext cx="7993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50920" y="4653000"/>
            <a:ext cx="8642160" cy="206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ach lay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two fun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Situation recognition and goal gen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unction: Maps current KB and goals to new go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Planning and schedul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function: Select plans to execute (based on current plans, goals, KB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50920" y="2781360"/>
            <a:ext cx="867564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ottom-Up-Activa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lower level layer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annot hand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situation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pass contro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higher leve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op-Down-Execution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level layers make use of “facilities” provided by lower level lay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908000" y="2565360"/>
            <a:ext cx="55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5   Multi-Agent Inte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0 Agent 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1447920" y="1143000"/>
            <a:ext cx="6172200" cy="553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2133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422100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Lecture 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500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1 Utilities and Preference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052640"/>
            <a:ext cx="8642160" cy="478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ssum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two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et of Environment stat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tility fun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gent i and Agent j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reference order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ω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weakly prefer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 Ag. i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v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ω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reviated 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ference order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trongly preferr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Ag. i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ω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              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breviated 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lation       is an ordering (reflexive, transitive, comparabl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4284720" y="1636560"/>
                <a:ext cx="2303280" cy="5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"/>
              <p:cNvSpPr txBox="1"/>
              <p:nvPr/>
            </p:nvSpPr>
            <p:spPr>
              <a:xfrm>
                <a:off x="5867280" y="2276640"/>
                <a:ext cx="180504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Ω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867280" y="2637000"/>
                <a:ext cx="186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Ω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1908000" y="3645000"/>
                <a:ext cx="217980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4" name=""/>
              <p:cNvSpPr txBox="1"/>
              <p:nvPr/>
            </p:nvSpPr>
            <p:spPr>
              <a:xfrm>
                <a:off x="7380360" y="3716280"/>
                <a:ext cx="112068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1835280" y="4678200"/>
                <a:ext cx="2179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6" name=""/>
              <p:cNvSpPr txBox="1"/>
              <p:nvPr/>
            </p:nvSpPr>
            <p:spPr>
              <a:xfrm>
                <a:off x="7323120" y="4724280"/>
                <a:ext cx="109080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≻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835280" y="5373720"/>
                <a:ext cx="34272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1 Utilities and Preference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9280" y="112536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ide aspect: What is utility?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s utility equal to mone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2195640" y="2060640"/>
            <a:ext cx="4495680" cy="442116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3492360" y="1844640"/>
            <a:ext cx="1800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227640" y="4076640"/>
            <a:ext cx="1297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ne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-360" y="1414440"/>
            <a:ext cx="845820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lvl="1" marL="660960" indent="-254160">
              <a:spcBef>
                <a:spcPts val="19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simultaneous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hoose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perfor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ult of the actions they sel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utcome in </a:t>
            </a:r>
            <a:r>
              <a:rPr b="0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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19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ctua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utco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pends on the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ombinatio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f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spcBef>
                <a:spcPts val="19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: each agent has jus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wo possible actions </a:t>
            </a:r>
            <a:br>
              <a:rPr sz="2400"/>
            </a:b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“cooperate”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(“defect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258920" y="4654440"/>
            <a:ext cx="6705720" cy="83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2 Multi-Agent Encounter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70160" y="4005360"/>
            <a:ext cx="82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behavior given by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state transformer fun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066680" y="2100240"/>
            <a:ext cx="7391520" cy="39204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971640" y="3357720"/>
            <a:ext cx="7162560" cy="3808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971640" y="4581360"/>
            <a:ext cx="7162560" cy="3924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2 Multi-Agent Encounter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12536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s for state transformer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440" y="2565360"/>
            <a:ext cx="7214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nvironment is sensitive to actions of both agen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976680" y="3789360"/>
            <a:ext cx="739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either agent has any influence in this environme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46520" y="5013360"/>
            <a:ext cx="4415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nvironment is controll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2205000"/>
            <a:ext cx="21600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39640" y="3429000"/>
            <a:ext cx="21600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4653000"/>
            <a:ext cx="21600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2822400" y="2708280"/>
            <a:ext cx="6194520" cy="8064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2"/>
          <a:stretch/>
        </p:blipFill>
        <p:spPr>
          <a:xfrm>
            <a:off x="1692360" y="3780000"/>
            <a:ext cx="7451640" cy="8096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3"/>
          <a:stretch/>
        </p:blipFill>
        <p:spPr>
          <a:xfrm>
            <a:off x="4191120" y="5011560"/>
            <a:ext cx="4859280" cy="46836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2 Multi-Agent Encounter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4"/>
          <a:stretch/>
        </p:blipFill>
        <p:spPr>
          <a:xfrm>
            <a:off x="1454040" y="2060640"/>
            <a:ext cx="7391520" cy="39204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324000" y="90792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ion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1680" y="1628640"/>
            <a:ext cx="8642160" cy="21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ssump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 is sensitive to actions of both ag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ssumption: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tility functions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03840" y="3716280"/>
            <a:ext cx="134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ort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72960" y="4724280"/>
            <a:ext cx="3783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i’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feren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lso in short notation)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452000" cy="80964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1908000" y="2779560"/>
            <a:ext cx="4859640" cy="46836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2 Multi-Agent Encounter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24000" y="981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ion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8360" y="414828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s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ational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i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cause i (strongly) prefers all outcomes that arise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outcomes that arise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908000" y="3355920"/>
            <a:ext cx="4859640" cy="4683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2916360" y="3605040"/>
            <a:ext cx="2347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427640" y="3571920"/>
            <a:ext cx="2347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880240" y="3605040"/>
            <a:ext cx="234720" cy="24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468360" y="5300640"/>
            <a:ext cx="828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is the 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rational choic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j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Because j (strongly) prefers all outcomes that arise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all outcomes that arise through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4932360" y="339552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,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44960" y="3395520"/>
            <a:ext cx="647640" cy="426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,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98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 theory: characterize the previous scenario in a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ayoff 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“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olumn play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“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row play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771640" y="2133720"/>
            <a:ext cx="3581640" cy="247644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2 Multi-Agent Encounter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981000"/>
            <a:ext cx="633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ational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2"/>
          <a:stretch/>
        </p:blipFill>
        <p:spPr>
          <a:xfrm>
            <a:off x="2050920" y="4869000"/>
            <a:ext cx="6154920" cy="66816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395280" y="4941720"/>
            <a:ext cx="16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468360" y="4797360"/>
            <a:ext cx="71280" cy="792360"/>
          </a:xfrm>
          <a:custGeom>
            <a:avLst/>
            <a:gdLst>
              <a:gd name="textAreaLeft" fmla="*/ 20880 w 71280"/>
              <a:gd name="textAreaRight" fmla="*/ 71640 w 71280"/>
              <a:gd name="textAreaTop" fmla="*/ 32760 h 792360"/>
              <a:gd name="textAreaBottom" fmla="*/ 7596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317080" y="4797360"/>
            <a:ext cx="71280" cy="792360"/>
          </a:xfrm>
          <a:custGeom>
            <a:avLst/>
            <a:gdLst>
              <a:gd name="textAreaLeft" fmla="*/ 21240 w 71280"/>
              <a:gd name="textAreaRight" fmla="*/ 72000 w 71280"/>
              <a:gd name="textAreaTop" fmla="*/ 32760 h 792360"/>
              <a:gd name="textAreaBottom" fmla="*/ 759600 h 7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3 Dominant Strategies and Nash Equilibria 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50920" y="1052640"/>
            <a:ext cx="8713800" cy="484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With respect to „what should I do“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 = 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sa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ak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omin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agent i“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 for agent i every state (outcome)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eferable to or at least as good as every stat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01"/>
              </a:spcBef>
              <a:buClr>
                <a:srgbClr val="ff33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 = 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sa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rongly domin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agent i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 for agent i every state (outcome)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preferable to every state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1403280" y="2565360"/>
                <a:ext cx="635148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∀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/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1476360" y="4365720"/>
                <a:ext cx="616428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∀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∧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∈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→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≻</m:t>
                    </m:r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39640" y="5516640"/>
                <a:ext cx="2957760" cy="56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"/>
              <p:cNvSpPr txBox="1"/>
              <p:nvPr/>
            </p:nvSpPr>
            <p:spPr>
              <a:xfrm>
                <a:off x="539640" y="6021360"/>
                <a:ext cx="317520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0" name=""/>
              <p:cNvSpPr txBox="1"/>
              <p:nvPr/>
            </p:nvSpPr>
            <p:spPr>
              <a:xfrm>
                <a:off x="4211640" y="5516640"/>
                <a:ext cx="205596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1" name=""/>
              <p:cNvSpPr txBox="1"/>
              <p:nvPr/>
            </p:nvSpPr>
            <p:spPr>
              <a:xfrm>
                <a:off x="4179960" y="6005520"/>
                <a:ext cx="21193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Ω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62" name=""/>
          <p:cNvSpPr/>
          <p:nvPr/>
        </p:nvSpPr>
        <p:spPr>
          <a:xfrm>
            <a:off x="6372360" y="5516640"/>
            <a:ext cx="215640" cy="1152360"/>
          </a:xfrm>
          <a:custGeom>
            <a:avLst/>
            <a:gdLst>
              <a:gd name="textAreaLeft" fmla="*/ 0 w 215640"/>
              <a:gd name="textAreaRight" fmla="*/ 77760 w 21564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732720" y="5445000"/>
            <a:ext cx="2077920" cy="12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rongly domin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Ω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agent i“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3 Dominant Strategies and Nash Equilibria 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052640"/>
            <a:ext cx="87138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ame theo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ta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a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e call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„strategie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*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th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set of possible outco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states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when „playing strate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executing action 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we have (as before)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have (from agent i‘s point of view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900000" y="3068640"/>
            <a:ext cx="7391520" cy="3920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68" name=""/>
              <p:cNvSpPr txBox="1"/>
              <p:nvPr/>
            </p:nvSpPr>
            <p:spPr>
              <a:xfrm>
                <a:off x="971640" y="4149720"/>
                <a:ext cx="20876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D</m:t>
                    </m:r>
                    <m:r>
                      <m:t xml:space="preserve">∗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3492360" y="4149720"/>
                <a:ext cx="20876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∗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ω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324000" y="4941720"/>
            <a:ext cx="8642160" cy="18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tation: „strateg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(strongly, weakly) domin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“ iff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1*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(strongly, weakly) domin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s2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buClr>
                <a:srgbClr val="ff33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f one strategy strongly dominates the other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question what to do is easy. (do fir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3 Dominant Strategies and Nash Equilibria 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79280" y="981000"/>
            <a:ext cx="87138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lete strongly dominated strategies from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roblem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tuation wit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weak domination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deleting weakly dominated strategie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removing possibly optimal op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wrt to complete r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79280" y="3141720"/>
            <a:ext cx="8713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wo strateg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wo 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e i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„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ash equilibrium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Assuming that agent i plays s1, agent j can do no better than play s2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Assuming that agent j plays s2, agent i can do no better than play s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5445000"/>
            <a:ext cx="864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a Nash equilibrium, no agent has an incentive to deviate from strategy of equilibri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256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4 Reactive and Hybrid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3 Dominant Strategies and Nash Equilibria 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79280" y="1052640"/>
            <a:ext cx="86425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a Nash equilibrium, no agent has an incentive to deviate from strategy of equilibriu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Nash equilibrium choice of what to do is eas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50920" y="2852640"/>
            <a:ext cx="33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Unfortunate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4000" y="3716280"/>
            <a:ext cx="8208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1) Not every interaction scenario has a Nash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 Some interaction scenarios have more than one Nash equilibri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4 Competitive and Zero-Sum Inte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0920" y="10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enari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trictly competitive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Agent i prefers outcom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ω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ω‘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ff agent j prefers outcom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ω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ve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ω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916360" y="1844640"/>
                <a:ext cx="295884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ω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r>
                      <m:t xml:space="preserve">↔</m:t>
                    </m:r>
                    <m:sSup>
                      <m:e>
                        <m:r>
                          <m:t xml:space="preserve">ω</m:t>
                        </m:r>
                      </m:e>
                      <m:sup>
                        <m:r>
                          <m:t xml:space="preserve">'</m:t>
                        </m:r>
                      </m:sup>
                    </m:sSup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ω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50920" y="256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enari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zero-sum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2627280" y="3068640"/>
                <a:ext cx="4173480" cy="592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ω</m:t>
                    </m:r>
                    <m:r>
                      <m:t xml:space="preserve">∈</m:t>
                    </m:r>
                    <m:r>
                      <m:t xml:space="preserve">Ω</m:t>
                    </m:r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ω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7" name=""/>
          <p:cNvSpPr/>
          <p:nvPr/>
        </p:nvSpPr>
        <p:spPr>
          <a:xfrm>
            <a:off x="250920" y="3860640"/>
            <a:ext cx="864216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zero-su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mes are alway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rictly competi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zero-su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es imp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egative utility for „los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trictly zero-sum: only in games like ches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l world never „strictly zero-sum“ (Example: two guys compete to win the heart of the same girl). But: Unfortunately many encounters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ercei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zero sum ga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250920" y="1052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wo criminals are held in separate cells (no communicatio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476360" y="1557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One confesses and the other does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confessor is freed and the other gets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473120" y="242100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Both conf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gets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473840" y="2924280"/>
            <a:ext cx="55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Neither confes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get 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50920" y="4149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yoff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357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ssociations:   Confess == D;   Not Confess =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476360" y="4869000"/>
            <a:ext cx="60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476360" y="5661000"/>
            <a:ext cx="60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476360" y="6453360"/>
            <a:ext cx="60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348000" y="429264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364000" y="429264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24720" y="429264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32000" y="501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41964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550872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o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1258920" y="580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co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56400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500720" y="4869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572000" y="566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600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724360" y="5950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65964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635280" y="5950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659640" y="566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50920" y="105264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wo criminals are held in separate cells (no communication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476360" y="1557360"/>
            <a:ext cx="67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1) One confesses and the other does no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 confessor is freed and the other gets 3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473120" y="2421000"/>
            <a:ext cx="528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Both confes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ach gets 2 ye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473840" y="2924280"/>
            <a:ext cx="55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Neither confess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oth get 1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50920" y="414972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ayoff matr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50920" y="3573360"/>
            <a:ext cx="88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ssociations:   Confess == D;   Not Confess ==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1476360" y="4869000"/>
            <a:ext cx="60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476360" y="5661000"/>
            <a:ext cx="60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76360" y="6453360"/>
            <a:ext cx="6048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3348000" y="429264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364000" y="429264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7524720" y="4292640"/>
            <a:ext cx="0" cy="2160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332000" y="5013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1964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def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508720" y="436572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co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258920" y="580536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 cooper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56400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500720" y="4869000"/>
            <a:ext cx="50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572000" y="566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796000" y="515772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724360" y="5950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659640" y="4869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635280" y="595008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659640" y="5661000"/>
            <a:ext cx="5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3419640" y="5877000"/>
            <a:ext cx="1008000" cy="72072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443640" y="4724280"/>
            <a:ext cx="1008000" cy="720720"/>
          </a:xfrm>
          <a:prstGeom prst="ellipse">
            <a:avLst/>
          </a:prstGeom>
          <a:noFill/>
          <a:ln w="316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4427640" y="5876640"/>
            <a:ext cx="3168720" cy="3603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380360" y="5229360"/>
            <a:ext cx="216000" cy="287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7631280" y="5300640"/>
            <a:ext cx="1512720" cy="8254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cker‘s payoff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79280" y="2708280"/>
            <a:ext cx="93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ake place of prisoner (e.g. prisoner i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urse of Reason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22200" y="148428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2200" y="191628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2200" y="23479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898560" y="112392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546200" y="112392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2193840" y="112392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98560" y="10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474920" y="10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50920" y="1476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25416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98560" y="1598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1858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546200" y="1606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18584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98560" y="202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83528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546200" y="2039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835280" y="181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6" name=""/>
              <p:cNvSpPr txBox="1"/>
              <p:nvPr/>
            </p:nvSpPr>
            <p:spPr>
              <a:xfrm>
                <a:off x="2959200" y="909720"/>
                <a:ext cx="6494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2898720" y="1257480"/>
                <a:ext cx="6626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3851280" y="1844640"/>
                <a:ext cx="4329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9" name=""/>
              <p:cNvSpPr txBox="1"/>
              <p:nvPr/>
            </p:nvSpPr>
            <p:spPr>
              <a:xfrm>
                <a:off x="3848040" y="2193840"/>
                <a:ext cx="44370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0" name=""/>
          <p:cNvSpPr/>
          <p:nvPr/>
        </p:nvSpPr>
        <p:spPr>
          <a:xfrm>
            <a:off x="539640" y="364500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 coope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j also cooperat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e both get payoff 3. If j defec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get payoff 0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guaranteed pay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I cooperate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39640" y="4437000"/>
            <a:ext cx="860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s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 de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If j cooperat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 get payoff 5. If j also defect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oth get payoff 2.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s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guaranteed payof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en I defect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39640" y="5157720"/>
            <a:ext cx="860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e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‘ll get a minimum guaranteed payoff o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operat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‘ll get a minimum guaranteed payoff o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9640" y="5950080"/>
            <a:ext cx="86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efe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guaranteed payoff o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uaranteed payoff o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0.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 should de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2637000"/>
            <a:ext cx="871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79280" y="3573360"/>
            <a:ext cx="871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79280" y="2708280"/>
            <a:ext cx="871380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nly one Nash equilibrium: (D,D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„under the assumption that the other does D, one can do no better than do D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uition says: (C,C) is better than (D,D) so why not (C,C)?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but if agent assumes that other agent does C it is BEST to do D!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seemingly „waste of utilit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hocking“ truth: defect is rational, cooperate is ir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ther prisoner‘s dilemma: Nuclear arms reduction (D: do not reduce, C: redu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22200" y="148428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322200" y="191628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22200" y="234792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898560" y="112392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1546200" y="112392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2193840" y="112392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98560" y="1052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474920" y="1052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250920" y="147636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25416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98560" y="1598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18584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546200" y="16066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85840" y="1844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898560" y="202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835280" y="14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546200" y="20397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835280" y="1819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7" name=""/>
              <p:cNvSpPr txBox="1"/>
              <p:nvPr/>
            </p:nvSpPr>
            <p:spPr>
              <a:xfrm>
                <a:off x="2959200" y="909720"/>
                <a:ext cx="64944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8" name=""/>
              <p:cNvSpPr txBox="1"/>
              <p:nvPr/>
            </p:nvSpPr>
            <p:spPr>
              <a:xfrm>
                <a:off x="2898720" y="1257480"/>
                <a:ext cx="6626160" cy="444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5</m:t>
                    </m:r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3851280" y="1844640"/>
                <a:ext cx="4329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0" name=""/>
              <p:cNvSpPr txBox="1"/>
              <p:nvPr/>
            </p:nvSpPr>
            <p:spPr>
              <a:xfrm>
                <a:off x="3848040" y="2193840"/>
                <a:ext cx="4437000" cy="44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1" name=""/>
          <p:cNvSpPr/>
          <p:nvPr/>
        </p:nvSpPr>
        <p:spPr>
          <a:xfrm>
            <a:off x="250920" y="2637000"/>
            <a:ext cx="8713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50920" y="1125360"/>
            <a:ext cx="864216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fect more rational than cooperate“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Humans: Machiavellism (opposed to real altruis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hilosophical question: isn‘t even altruism ultimately some kind of  optimization towards OWN goals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urther aspect: Strict rational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in case of prisoner‘s dilemma: defect) is usually only appli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when sucker‘s payoff really hur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we have not yet regarded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ltiple sequential gam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same player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„The shadow of the future“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hat does it mean to rationalism and strategy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79280" y="907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hadow of the future: Iterated Prisoner‘s Dilemma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22200" y="1773360"/>
            <a:ext cx="864252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me is play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ltiple times. Agents can see all past actions of other ag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urse of reason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611280" y="3286080"/>
            <a:ext cx="763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I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fec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the other agent my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unis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 by defecting in the next run. (not a point in the one shot Prisoner‘s Dilemma ga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11280" y="4149720"/>
            <a:ext cx="7632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esting cooper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d possibly getting the sucker‘s payoff) i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t trag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because „on the long run“ one (or several) sucker‘s payoff(s) is (are) „statistically“ not important (can e.g. be equaled by gains through mutual cooperation)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250920" y="580536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 an iterated PD-game: cooperation is 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179280" y="907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shadow of the future: Iterated Prisoner‘s Dilemma 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250920" y="1700280"/>
            <a:ext cx="8642160" cy="43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6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operation is rational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ly valid 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definite iterated PD-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only 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fixed numb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games (say n) are play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backwards indu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spoils“ cooperation: On nth run: No shadow of the 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efect is ration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ally only n-1 runs to consider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pply argument recursive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ways defect is 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6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tunately: in most scenarios: n is unknow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„virtual“ shadow of the futur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operation is, again, 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79280" y="907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eting PD-strategies: Axelrod‘s tournament (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250920" y="1989000"/>
            <a:ext cx="8642160" cy="44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LL-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lways def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ANDO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oose D or C 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IT-FOR-TA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 the first round cooperate; on round t do what opponent did on round t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EST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ntion: Exploit „nice“ programs that not punish D: On first round, test opponent with D. If opponent retaliates with 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y TIT-FOR-TAT. If opponent does C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y CC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JO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ike TESTER but with p=0.1 deviate from CCD by replacing a C with 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179280" y="141300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me strategies compe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300720" y="1557360"/>
            <a:ext cx="2532240" cy="9464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 note on wording: here we use the word strategy in its usual sense; not the former notation strategy == 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1 Subsumption Architecture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125360"/>
            <a:ext cx="8064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discussion on deductive reasoning agents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Logic and Reasoning pose substantial problem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some researchers completely reject symbolic approa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syntactic reasoning on symbolic represent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ain alternative idea („behavioural“, „situated“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uil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imple reactive behaviour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lex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llig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u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emer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rom simple interactions with environment and other agents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llig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assumed to b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never disembodi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79280" y="907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eting PD-strategies: Axelrod‘s tournament (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50920" y="1628640"/>
            <a:ext cx="8642160" cy="382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Winner was TIT-FOR-TA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5 lines of Fortran co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Why? Overall Sc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a strategy computed 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vera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performanc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against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all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other strategi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IT-FOR-TAT was defeated by ALL-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IT-FOR-THAT won against „cooperative strategies“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ain (as in analysis of single PD): being not too cooperative pays ou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xelrod distilled som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ules from outcome of tourna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79280" y="907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eting PD-strategies: Axelrod‘s tournament (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24000" y="2386080"/>
            <a:ext cx="80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 Do not be first to defec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peration is risky (sucker‘s payoff) but overall, some losses do not count that much and cooperation may result in win-win-situations (C,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324000" y="3754440"/>
            <a:ext cx="8065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3) Reciprocate C and D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-FOR-TAT balances punishing and forgiv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courages cooperation for other agent. TIT-FOR-TAT is fair: retaliates exactly with the same amount of maliciousness as oppon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324000" y="5516640"/>
            <a:ext cx="806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4) Don‘t be too clev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T-FOR-TAT was simplest but won over programs with complex models of opponent‘s strate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24000" y="1522440"/>
            <a:ext cx="806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1) Do not be enviou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necessary to „beat“ opponent to do w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5 The Prisoner‘s Dilemma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90792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ompeting PD-strategies: Axelrod‘s tournament (198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2852640"/>
            <a:ext cx="8066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1) In course of tournament, models are not improved by learning (respecting reciprocal learning of other ag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179280" y="1844640"/>
            <a:ext cx="864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asons why lack of opponent model was benefici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39640" y="407664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2) Over-generalization when other defects. Not forgi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539640" y="5011560"/>
            <a:ext cx="806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3) Complex model without learn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me as rand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6 Other symmetric 2x2 Game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0920" y="1052640"/>
            <a:ext cx="864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x2“: two agents, each with two actions;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ymmetri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3" name=""/>
              <p:cNvSpPr txBox="1"/>
              <p:nvPr/>
            </p:nvSpPr>
            <p:spPr>
              <a:xfrm>
                <a:off x="3348000" y="1557360"/>
                <a:ext cx="4329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44" name=""/>
              <p:cNvSpPr txBox="1"/>
              <p:nvPr/>
            </p:nvSpPr>
            <p:spPr>
              <a:xfrm>
                <a:off x="3348000" y="1916280"/>
                <a:ext cx="4437000" cy="44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45" name=""/>
          <p:cNvSpPr/>
          <p:nvPr/>
        </p:nvSpPr>
        <p:spPr>
          <a:xfrm>
            <a:off x="3733920" y="1484280"/>
            <a:ext cx="0" cy="865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4737240" y="1484280"/>
            <a:ext cx="0" cy="865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796000" y="1484280"/>
            <a:ext cx="0" cy="865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877080" y="1484280"/>
            <a:ext cx="0" cy="865080"/>
          </a:xfrm>
          <a:prstGeom prst="line">
            <a:avLst/>
          </a:prstGeom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7740720" y="1916280"/>
            <a:ext cx="1189080" cy="6426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symmetry ax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0" name=""/>
          <p:cNvCxnSpPr>
            <a:stCxn id="445" idx="0"/>
            <a:endCxn id="449" idx="2"/>
          </p:cNvCxnSpPr>
          <p:nvPr/>
        </p:nvCxnSpPr>
        <p:spPr>
          <a:xfrm flipH="1" rot="16200000">
            <a:off x="5923440" y="158400"/>
            <a:ext cx="221400" cy="4602600"/>
          </a:xfrm>
          <a:prstGeom prst="curvedConnector5">
            <a:avLst>
              <a:gd name="adj1" fmla="val 203583"/>
              <a:gd name="adj2" fmla="val 50000"/>
              <a:gd name="adj3" fmla="val 2035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1" name=""/>
          <p:cNvCxnSpPr>
            <a:stCxn id="446" idx="0"/>
            <a:endCxn id="449" idx="2"/>
          </p:cNvCxnSpPr>
          <p:nvPr/>
        </p:nvCxnSpPr>
        <p:spPr>
          <a:xfrm flipH="1" rot="16200000">
            <a:off x="6426000" y="659880"/>
            <a:ext cx="221400" cy="3599280"/>
          </a:xfrm>
          <a:prstGeom prst="curvedConnector5">
            <a:avLst>
              <a:gd name="adj1" fmla="val 203583"/>
              <a:gd name="adj2" fmla="val 49994"/>
              <a:gd name="adj3" fmla="val 2035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2" name=""/>
          <p:cNvCxnSpPr>
            <a:stCxn id="447" idx="0"/>
            <a:endCxn id="449" idx="2"/>
          </p:cNvCxnSpPr>
          <p:nvPr/>
        </p:nvCxnSpPr>
        <p:spPr>
          <a:xfrm flipH="1" rot="16200000">
            <a:off x="6954480" y="1189440"/>
            <a:ext cx="221400" cy="2540520"/>
          </a:xfrm>
          <a:prstGeom prst="curvedConnector5">
            <a:avLst>
              <a:gd name="adj1" fmla="val 203583"/>
              <a:gd name="adj2" fmla="val 50000"/>
              <a:gd name="adj3" fmla="val 2035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3" name=""/>
          <p:cNvCxnSpPr>
            <a:stCxn id="448" idx="0"/>
            <a:endCxn id="449" idx="2"/>
          </p:cNvCxnSpPr>
          <p:nvPr/>
        </p:nvCxnSpPr>
        <p:spPr>
          <a:xfrm flipH="1" rot="16200000">
            <a:off x="7495920" y="1729800"/>
            <a:ext cx="221400" cy="1459440"/>
          </a:xfrm>
          <a:prstGeom prst="curvedConnector5">
            <a:avLst>
              <a:gd name="adj1" fmla="val 203583"/>
              <a:gd name="adj2" fmla="val 49987"/>
              <a:gd name="adj3" fmla="val 203583"/>
            </a:avLst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54" name=""/>
          <p:cNvSpPr/>
          <p:nvPr/>
        </p:nvSpPr>
        <p:spPr>
          <a:xfrm>
            <a:off x="250920" y="304308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ther symmetric 2x2 games (There are 4!=24 such gam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5" name=""/>
              <p:cNvSpPr txBox="1"/>
              <p:nvPr/>
            </p:nvSpPr>
            <p:spPr>
              <a:xfrm>
                <a:off x="1042920" y="3789360"/>
                <a:ext cx="4329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6" name=""/>
          <p:cNvSpPr/>
          <p:nvPr/>
        </p:nvSpPr>
        <p:spPr>
          <a:xfrm>
            <a:off x="5076720" y="37800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risoner‘s Dilem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7" name=""/>
              <p:cNvSpPr txBox="1"/>
              <p:nvPr/>
            </p:nvSpPr>
            <p:spPr>
              <a:xfrm>
                <a:off x="1041480" y="4160880"/>
                <a:ext cx="43290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58" name=""/>
          <p:cNvSpPr/>
          <p:nvPr/>
        </p:nvSpPr>
        <p:spPr>
          <a:xfrm>
            <a:off x="5075280" y="41511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ame of Chic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9" name=""/>
              <p:cNvSpPr txBox="1"/>
              <p:nvPr/>
            </p:nvSpPr>
            <p:spPr>
              <a:xfrm>
                <a:off x="1055520" y="4567320"/>
                <a:ext cx="4329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0" name=""/>
          <p:cNvSpPr/>
          <p:nvPr/>
        </p:nvSpPr>
        <p:spPr>
          <a:xfrm>
            <a:off x="5076720" y="453240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Stag Hu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042920" y="4952880"/>
                <a:ext cx="4329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5064120" y="491796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fection do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3" name=""/>
              <p:cNvSpPr txBox="1"/>
              <p:nvPr/>
            </p:nvSpPr>
            <p:spPr>
              <a:xfrm>
                <a:off x="1054080" y="5335560"/>
                <a:ext cx="432900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4" name=""/>
          <p:cNvSpPr/>
          <p:nvPr/>
        </p:nvSpPr>
        <p:spPr>
          <a:xfrm>
            <a:off x="5075280" y="53006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efection do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1055520" y="5745240"/>
                <a:ext cx="4329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6" name=""/>
          <p:cNvSpPr/>
          <p:nvPr/>
        </p:nvSpPr>
        <p:spPr>
          <a:xfrm>
            <a:off x="5076720" y="5710320"/>
            <a:ext cx="36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operation do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7" name=""/>
              <p:cNvSpPr txBox="1"/>
              <p:nvPr/>
            </p:nvSpPr>
            <p:spPr>
              <a:xfrm>
                <a:off x="1054080" y="6116760"/>
                <a:ext cx="432900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8" name=""/>
          <p:cNvSpPr/>
          <p:nvPr/>
        </p:nvSpPr>
        <p:spPr>
          <a:xfrm>
            <a:off x="5075280" y="608184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Cooperation domin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900000" y="3716280"/>
            <a:ext cx="7056720" cy="2952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003640" y="3716280"/>
            <a:ext cx="0" cy="295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6 Other symmetric 2x2 Game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50920" y="1557360"/>
            <a:ext cx="864216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oing back to J.J.Russeau (177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rn varia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u and a friend decide: good joke to appear both naked on a party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: really do it; D: not do 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1403280" y="3357720"/>
                <a:ext cx="4329360" cy="42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5" name=""/>
          <p:cNvSpPr/>
          <p:nvPr/>
        </p:nvSpPr>
        <p:spPr>
          <a:xfrm>
            <a:off x="395280" y="98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g Hu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6156360" y="364500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156360" y="407664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156360" y="450864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732720" y="328464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7380360" y="328464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V="1">
            <a:off x="8028000" y="328464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38036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73272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08472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084720" y="36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732720" y="3759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02000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80360" y="3767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0200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732720" y="4186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76690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380360" y="4200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7669080" y="3979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24000" y="472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wo Nash equilibria: (D,D), (C,C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ing the other does D you can do no better than do D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uming the other does C you can do no better than do 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6 Other symmetric 2x2 Game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50920" y="1557360"/>
            <a:ext cx="8642160" cy="14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oing back to a James Dean fil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ern varian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angster and hero drive cars directly towards each othe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: steer away; D: not steer aw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95280" y="981000"/>
            <a:ext cx="36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ame of Chick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24000" y="4724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wo Nash equilibria: (D,C), (C,D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ing the other does D you can do no better than do C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uming the other does C you can do no better than do D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0" name=""/>
              <p:cNvSpPr txBox="1"/>
              <p:nvPr/>
            </p:nvSpPr>
            <p:spPr>
              <a:xfrm>
                <a:off x="1042920" y="3500280"/>
                <a:ext cx="4329360" cy="4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sSub>
                      <m:e>
                        <m:r>
                          <m:t xml:space="preserve">≻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D</m:t>
                    </m:r>
                    <m:r>
                      <m:t xml:space="preserve">,</m:t>
                    </m:r>
                    <m:r>
                      <m:t xml:space="preserve">D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01" name=""/>
          <p:cNvSpPr/>
          <p:nvPr/>
        </p:nvSpPr>
        <p:spPr>
          <a:xfrm>
            <a:off x="6156360" y="364500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156360" y="407664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156360" y="4508640"/>
            <a:ext cx="187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V="1">
            <a:off x="6732720" y="328464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 flipV="1">
            <a:off x="7380360" y="328464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 flipV="1">
            <a:off x="8028000" y="3284640"/>
            <a:ext cx="0" cy="1224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738036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732720" y="321300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084720" y="407664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084720" y="364500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: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6732720" y="3759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02000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380360" y="37670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0200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6732720" y="4186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669080" y="357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380360" y="4200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669080" y="39798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50920" y="11592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5.7 Dependence Relations in M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0920" y="1700280"/>
            <a:ext cx="8642160" cy="308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depende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o dependency between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later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agent depends on other but not vice ver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th agents depend on each other (wrt. same go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ciprocal depende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 one depends on agent two wrt. to some goal. Agent two depends on agent one wrt. some other goal. Goals may be same but need not 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80720" y="907920"/>
            <a:ext cx="29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(Sichmann (see [1]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68360" y="5157720"/>
            <a:ext cx="748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ations are eithe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cally believ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gent one believes it and believes agent two does not believe it exists)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utually belie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324000" y="9810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1]  M. Woolridge: „An Introduction to Multi-Agent-Systems“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ey, 2001, 294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2]  G. Antoniou, F. van Harmelen: „A Semantic Web Primer“,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T Press, 2004, 392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324000" y="2852640"/>
            <a:ext cx="8820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3]  S. Russell, P. Norvig: „Artificial Intelligence: A Modern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Approach“, Prentice-Hall, 1995, 99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4] J.Schlichter, U.Borghoff: „Computer-suppor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ve Work“, Springer,  2000, 456 p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5] G.Weiß (ed.): „Multi-Agent-Systems“, MIT-Press, 1999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76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J. Rosenschein, Univ. of Jerusalem, Lecture Slides „Introduction to MAS“, available through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c.liv.ac.uk/~mjw/pubs/im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(website for 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324000" y="981000"/>
            <a:ext cx="882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W.Wörndl, TU-München, Lecture-slides for „Verteiltes Problemlösen“, SS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7] M.Richter „Prinzipien der künstlichen Intelligenz“, Teubner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8] A.Rao, M.Georgeff: „Modeling Rational Agents within a BDI-Architecture“, Proc. Knowledge Represenation and Reasoning KR&amp;R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1 Subsumption Architecture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25360"/>
            <a:ext cx="864216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rooks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bsumption Architecture (see [1]). 3 main the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lligent behaviour without symbolic representations as proposed by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lligent behaviour without syntactic symbolic reasoning as proposed by 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lligent bahaviour is emerged property of certain complex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2 key ide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ituatedness and embodimen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ligence is situated in the real world and needs embodi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telligence and emergence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telligent behaviour through interaction with env. „in the eye of the beholder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1 Subsumption Architecture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125360"/>
            <a:ext cx="91836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bsumption architectur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Task accomplishing behaviours.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itu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ction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Behavio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ps percept directly to action. Agent may hav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multiple behavior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riginal architecture: Behaviors implemented as finite state mach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ltiple behaviours may fire at the same tim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mechanism to choose is necessary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 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bsumption hierarch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urs organized 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layers. Lower lay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haviour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inhibit higher lev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s. E.g.: „Avoid obstacles“ lower layer (higher priority) than „drive to goal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1 Subsumption Architecture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760" y="907920"/>
            <a:ext cx="9183600" cy="24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Formally: a behaviour  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s            wit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Behaviour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=(c,a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fires if environment is in stat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s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nd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subsumption hierarchy implemented by inhibition relation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	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 „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1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inhibits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b</a:t>
            </a:r>
            <a:r>
              <a:rPr b="1" i="1" lang="en-US" sz="20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overa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action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function: (time complexity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 O(n</a:t>
            </a:r>
            <a:r>
              <a:rPr b="1" i="1" lang="en-US" sz="2000" spc="-1" strike="noStrike" baseline="30000">
                <a:solidFill>
                  <a:srgbClr val="000000"/>
                </a:solidFill>
                <a:latin typeface="Times New Roman"/>
                <a:ea typeface="Arial"/>
              </a:rPr>
              <a:t>2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68360" y="98100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240000" y="907920"/>
                <a:ext cx="475164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b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Beh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⊆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719280" y="1700280"/>
                <a:ext cx="1357200" cy="43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e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  <m:r>
                      <m:t xml:space="preserve">∈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863640" y="2421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≺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8" name=""/>
          <p:cNvSpPr/>
          <p:nvPr/>
        </p:nvSpPr>
        <p:spPr>
          <a:xfrm>
            <a:off x="971640" y="3457440"/>
            <a:ext cx="7056360" cy="33858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unction action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{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var fired: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var selected: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Ac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fired= 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for each      fired do {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 if        fired such that    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then return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}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043080" y="3780000"/>
                <a:ext cx="868680" cy="4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R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Beh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3780000" y="3530520"/>
                <a:ext cx="171288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p</m:t>
                    </m:r>
                    <m:r>
                      <m:t xml:space="preserve">∈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)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A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340000" y="4573440"/>
                <a:ext cx="3900600" cy="3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|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⊆</m:t>
                        </m:r>
                        <m:r>
                          <m:rPr>
                            <m:lit/>
                            <m:nor/>
                          </m:rPr>
                          <m:t xml:space="preserve">Beh</m:t>
                        </m:r>
                        <m:r>
                          <m:t xml:space="preserve">∧</m:t>
                        </m:r>
                        <m:r>
                          <m:t xml:space="preserve">p</m:t>
                        </m:r>
                        <m:r>
                          <m:t xml:space="preserve">∈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844720" y="4948200"/>
                <a:ext cx="903240" cy="390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768320" y="5343480"/>
                <a:ext cx="150840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∈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6012000" y="5305320"/>
                <a:ext cx="1817640" cy="38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t xml:space="preserve">c</m:t>
                    </m:r>
                    <m:r>
                      <m:rPr>
                        <m:lit/>
                        <m:nor/>
                      </m:rPr>
                      <m:t xml:space="preserve">',</m:t>
                    </m:r>
                    <m:r>
                      <m:t xml:space="preserve">a</m:t>
                    </m:r>
                    <m:r>
                      <m:t xml:space="preserve">'</m:t>
                    </m:r>
                    <m:r>
                      <m:t xml:space="preserve">)</m:t>
                    </m:r>
                    <m:r>
                      <m:t xml:space="preserve">≺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1 Subsumption Architecture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eels: Mars Explor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700280"/>
            <a:ext cx="8642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Go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 Architecture for MAS fo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explor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ploration goal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llect special rock samples (found in clusters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s cannot directly communicate but c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termine dire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mother-ship vi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radio-signal gradient.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direct communication by dropping beacons („crumbs“)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mpare communication in ant-populations through pheromones. (reinforcement of promising (often used) trails, weakening of less promising (less often used) trail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direct communication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llaboration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emergent behavio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4.1 Subsumption Architecture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79280" y="981000"/>
            <a:ext cx="748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Steels: Mars Explorer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0920" y="1628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ndividual agent‘s (goal-directed) behaviou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5280" y="2276640"/>
            <a:ext cx="8748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obstac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changeDirection                         (1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carryingSampl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 Unicode MS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atTheBa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dropSamples          (2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carrying Samples 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 Unicode MS"/>
              </a:rPr>
              <a:t>∧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¬ atTheBas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travelUpGradient  (3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detectSampl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pickUpSample                        (4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TRUE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Lucida Console"/>
                <a:ea typeface="Arial"/>
              </a:rPr>
              <a:t> moveRandomly                               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68360" y="4005360"/>
            <a:ext cx="785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subsumption hierarchy:  (1)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≺  (2)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 ≺  (3)  ≺  (4)  ≺  (5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4941720"/>
            <a:ext cx="8064360" cy="16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odification: Collaborative behaviour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If sample is found, drop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„crumb trail“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while returning to ship (as guide for other agents (special rocks appear in clusters!). Other agents will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weaken trai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on way to samples. If sample cluster is empty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trail reinforcem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trail „dies“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37:50Z</dcterms:created>
  <dc:creator>Fridl Bunke</dc:creator>
  <dc:description/>
  <dc:language>en-US</dc:language>
  <cp:lastModifiedBy>georg</cp:lastModifiedBy>
  <dcterms:modified xsi:type="dcterms:W3CDTF">2006-09-19T13:13:33Z</dcterms:modified>
  <cp:revision>131</cp:revision>
  <dc:subject/>
  <dc:title>Folie 1</dc:title>
</cp:coreProperties>
</file>