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0C0C0-6D33-4908-B7C0-A3580210C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A1E46-CF7B-4366-AA9A-157FEBE9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A7B7-9438-4B2D-96C0-DBB62D1FB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E0D8-2798-4B5A-9374-A3867EA42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5051F-A649-4D19-A6FD-9FE3D7B2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2627-867A-4C0B-BF44-0A584FC9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D759-7DFD-4768-BC28-79C47D8D0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7EC9-2256-46EA-9F74-A86E589D0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BFF8-BFB7-4BED-B46C-8DDAF3D99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520FF-2E77-42C0-B893-F65272AA4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A1242-466B-46D3-94A6-AD58D28E9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A33B-C706-42EB-89A9-79013D7D0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AC5CE-1D17-44E2-9257-2AF48A5DA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csc.liv.ac.uk/~mjw/pubs/imas" TargetMode="External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47640" y="40464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-Agent-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68360" y="5013360"/>
            <a:ext cx="8209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Slides and Lecture: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Dr. Georg Groh, TU-München, Germany.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grohg@in.tum.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1844640"/>
            <a:ext cx="806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se slides are based on the book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M. Woolridge „An Introduction to Multi-Agent-Systems“,  Wiley, 2001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55640" y="1484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708280"/>
            <a:ext cx="777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y were used in the Lecture “Verteiltes Problemlösen: Software Agenten und Semantic Web”, TU-München, Dept. of Informatics, Summer 200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9640" y="393372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They can be used for free in any academic teaching scenari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5640" y="4724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1 Speech Act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0920" y="981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an-based theory of speech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0920" y="1916280"/>
            <a:ext cx="849636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d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ans as series of actions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action transforming pre-cond. into post-co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w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place actions with speeach acts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acts operate on beliefs and goals of speakers and liste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e-Cond. and post-cond of speech a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expressed in (multi-)modal logic (beliefs, abilities, goals) (compare chapter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hen and Perrault (see[1])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lan-based theory of speech ac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ike STRIPS (pre, post, add-list, delete-list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1 Speech Acts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9280" y="9079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an-based theory of speech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68360" y="1413000"/>
            <a:ext cx="849636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aker cannot (generally) </a:t>
            </a: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forc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hearer to accept some desired mental state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separation between the </a:t>
            </a: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illocutionary act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 the </a:t>
            </a:r>
            <a:r>
              <a:rPr b="0" i="1" lang="en-US" sz="2200" spc="-1" strike="noStrike">
                <a:solidFill>
                  <a:srgbClr val="ff3300"/>
                </a:solidFill>
                <a:latin typeface="Arial"/>
              </a:rPr>
              <a:t>perlocutionary a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or some acts, a following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mediating ac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s necessary to “complete”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Example: Reques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CauseToWant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ediating ac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41120" y="393372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Request(h,s,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79280" y="4365720"/>
            <a:ext cx="417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Pre: (1) (s believe (h cando α)) </a:t>
            </a:r>
            <a:r>
              <a:rPr b="0" lang="en-US" sz="2000" spc="-1" strike="noStrike">
                <a:solidFill>
                  <a:srgbClr val="0066cc"/>
                </a:solidFill>
                <a:latin typeface="Arial Unicode MS"/>
                <a:ea typeface="Arial Unicode MS"/>
              </a:rPr>
              <a:t>∧ 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Arial Unicode MS"/>
                <a:ea typeface="Arial Unicode MS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 Unicode MS"/>
                <a:ea typeface="Arial Unicode MS"/>
              </a:rPr>
              <a:t> (s believe (h believe 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Arial Unicode MS"/>
                <a:ea typeface="Arial Unicode MS"/>
              </a:rPr>
              <a:t>                (h cando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α)))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5373720"/>
            <a:ext cx="396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(2) s believe (s want 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66cc"/>
                </a:solidFill>
                <a:latin typeface="Arial"/>
              </a:rPr>
              <a:t>requestInstance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4200" y="6084720"/>
            <a:ext cx="385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Post:     h believe (s believe 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              (s want α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79280" y="6093000"/>
            <a:ext cx="388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9280" y="4365720"/>
            <a:ext cx="388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41120" y="3933720"/>
            <a:ext cx="39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79280" y="3933720"/>
            <a:ext cx="3888000" cy="28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33840" y="396072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CauseToWant(a1,a2,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43280" y="443700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Pre:   a1 believe (a2 believe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(a2 want α)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606920" y="611172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Post:  a1 believe (a1 want α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4572000" y="6119280"/>
            <a:ext cx="3887640" cy="18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0" y="4392720"/>
            <a:ext cx="3887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33840" y="3960720"/>
            <a:ext cx="39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2000" y="3960720"/>
            <a:ext cx="3887640" cy="28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1 Speech Acts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90792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Plan-based theory of speech a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24000" y="1773360"/>
            <a:ext cx="8496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2nd Example: Inform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Convince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(mediating ac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2897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Inform(h,s,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61800" y="3328920"/>
            <a:ext cx="417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Pre: (1)  s believe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φ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00000" y="4149720"/>
            <a:ext cx="396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(2) s believe (s want </a:t>
            </a:r>
            <a:br>
              <a:rPr sz="2000"/>
            </a:b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       </a:t>
            </a:r>
            <a:r>
              <a:rPr b="0" i="1" lang="en-US" sz="2000" spc="-1" strike="noStrike">
                <a:solidFill>
                  <a:srgbClr val="0066cc"/>
                </a:solidFill>
                <a:latin typeface="Arial"/>
              </a:rPr>
              <a:t>informInstance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96720" y="504828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Post:    h believe (s believe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61800" y="5056200"/>
            <a:ext cx="388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61800" y="3328920"/>
            <a:ext cx="388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4000" y="2897280"/>
            <a:ext cx="3924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61800" y="2897280"/>
            <a:ext cx="3888000" cy="28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716360" y="2924280"/>
            <a:ext cx="34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CauseToWant(a1,a2,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φ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826160" y="3400560"/>
            <a:ext cx="396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Pre:   a1 believe (a2 believe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φ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789440" y="5075280"/>
            <a:ext cx="385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cc"/>
                </a:solidFill>
                <a:latin typeface="Arial"/>
              </a:rPr>
              <a:t>Post:  a1 believe </a:t>
            </a:r>
            <a:r>
              <a:rPr b="0" lang="en-US" sz="2000" spc="-1" strike="noStrike">
                <a:solidFill>
                  <a:srgbClr val="0066cc"/>
                </a:solidFill>
                <a:latin typeface="Arial"/>
                <a:ea typeface="Arial"/>
              </a:rPr>
              <a:t>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4754520" y="5083200"/>
            <a:ext cx="388800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54520" y="3355920"/>
            <a:ext cx="3888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716360" y="2924280"/>
            <a:ext cx="39243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754520" y="2924280"/>
            <a:ext cx="3888000" cy="2808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24000" y="4221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920" y="1052640"/>
            <a:ext cx="8496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PA funde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KSE (Knowledge Sharing Effort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arly 1990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ign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two agent communication languag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ACLs) with different purpo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KQM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nowledge Query and Manipulation Language). „Outer“ language; define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essage envelope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KIF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Knowledge Interchange Format). „Inner“ language;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fines messag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0920" y="4941720"/>
            <a:ext cx="8496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„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irst order logic in LISP notation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tains most constructs from FOL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VERY expressive (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too expressive 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9280" y="981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4000" y="1628640"/>
            <a:ext cx="849600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ossible to express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pert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things in a domain („Nadja has red hair“) („Georg has a silly little beard“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lationship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tween things in a domain („Hans is married to Evi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eneral properti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a domain („everybody has a mother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uantor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orall ex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vocabulary („Ontology“) for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objec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numbers, strings etc., complex objects, lists etc.)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ethod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9280" y="981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4000" y="1628640"/>
            <a:ext cx="849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95280" y="2276640"/>
            <a:ext cx="874872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= (temperature m1) (scalar 83 celsiu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relation bachelor (?x) := (and (man ?x) (not (married ?x))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defrelation person (?x) :=&gt; (mammal ?x)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763640" y="3068640"/>
            <a:ext cx="460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763640" y="4508640"/>
            <a:ext cx="460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981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Q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24000" y="1628640"/>
            <a:ext cx="849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message ha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performati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„class“ of message) and a number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me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5280" y="3068640"/>
            <a:ext cx="87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ask-on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content (PRICE IBM ?PRICE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receiver stockServ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language LPROLOG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ontology NYSE-TICK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8360" y="2924280"/>
            <a:ext cx="1942920" cy="64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76720" y="1557360"/>
            <a:ext cx="1942920" cy="6494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2411280" y="2205000"/>
            <a:ext cx="1873440" cy="10080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979640" y="1916280"/>
            <a:ext cx="1942920" cy="649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0000" y="3284640"/>
            <a:ext cx="5257800" cy="1728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2565360"/>
            <a:ext cx="504720" cy="7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9280" y="981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Q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24000" y="2276640"/>
            <a:ext cx="813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4000" y="1700280"/>
            <a:ext cx="8135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95280" y="5950080"/>
            <a:ext cx="8136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773360"/>
            <a:ext cx="82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arameter             Mea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-252360" y="2565360"/>
            <a:ext cx="3744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content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langua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ontolog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force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reply-with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in-reply-to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sender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03640" y="2532240"/>
            <a:ext cx="6192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ntent of messag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mal language message is in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erminology message is based on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l sender ever deny content of message?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ply expected? identifier of reply?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d of reply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nder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cei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9280" y="981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Q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4000" y="1628640"/>
            <a:ext cx="849600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pen architecture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gents do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ot precisely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now if and how some agen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presen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rtain knowledge in its database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ther agent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attribut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ertain knowledge to an agent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KB (virtual knowledge ba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xt slides: KQML performatives, example dialogs in KQ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79280" y="981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QML Perform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 rot="16140000">
            <a:off x="-1145160" y="2880000"/>
            <a:ext cx="11307960" cy="85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1763640" y="2133720"/>
            <a:ext cx="5832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ulti-Agent-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03640" y="4221000"/>
            <a:ext cx="309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3399"/>
                </a:solidFill>
                <a:latin typeface="Arial"/>
              </a:rPr>
              <a:t>Lecture 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6920" y="3500280"/>
            <a:ext cx="7632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 rot="16140000">
            <a:off x="-183960" y="-1814760"/>
            <a:ext cx="9937800" cy="748368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79280" y="981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QML Perform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2195640" y="654120"/>
            <a:ext cx="6591240" cy="622944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9280" y="981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QML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79280" y="981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QML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1835280" y="907920"/>
            <a:ext cx="7014960" cy="865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1619280" y="-2835360"/>
            <a:ext cx="7095960" cy="907272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16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9280" y="981000"/>
            <a:ext cx="856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KQML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Example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Dialo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X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9280" y="981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PA 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95280" y="1700280"/>
            <a:ext cx="8496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wbacks of KQML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velopment of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new ACL by FIP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foundation for intelligent physical agents) in 19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PA ACL‘s syntax and basic concep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very similar to KQ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ample messag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3860640"/>
            <a:ext cx="8748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(inform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sender agent1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receiver agent2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content (price good2 150)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language sl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:ontology hpl-aucti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X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79280" y="981000"/>
            <a:ext cx="85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PA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A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79280" y="1892160"/>
            <a:ext cx="849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t of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erfor-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tives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 FIPA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C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1547640" y="1052640"/>
            <a:ext cx="7391520" cy="56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X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79280" y="981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PA ACL -- Perform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9280" y="1809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accept-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267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can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79280" y="2241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ag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9280" y="4689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con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9280" y="34401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c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79280" y="56260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9280" y="51228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disconfi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132000" y="180972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accepts proposal made by other ag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32000" y="224172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agrees to carry out requested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132000" y="2673360"/>
            <a:ext cx="60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llows request; indicates intention behind request is not valid any m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97080" y="3394080"/>
            <a:ext cx="60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proposals; initiates negotiation between agents; content-parameter contains action (desired to be done by some other agent) (e.g.: „sell me car“) and condition (e.g.: „price &lt; 1000$“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059280" y="4689360"/>
            <a:ext cx="60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truth of content (recipient was uns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59280" y="5122800"/>
            <a:ext cx="60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firm falsity of content (recipient was unsu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059280" y="5589720"/>
            <a:ext cx="60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tempt to do requested action fa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X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9280" y="981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PA ACL -- Perform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9280" y="1773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in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79280" y="321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inform-i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79280" y="46134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inform-r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627280" y="1844640"/>
            <a:ext cx="60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gether wit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ost important performative; basic mechanism for communicating information; sender wants recipient to believe info; sender believes info itsel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92360" y="3213000"/>
            <a:ext cx="60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s other agent about truth of statement (in its content parameter) if it is true; typically cont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ssage (thus asking the receiver to inform me if statement is tru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56000" y="4638600"/>
            <a:ext cx="60116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forms other agent about value of expression (in its content parameter); typically content o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reque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message (thus asking the receiver to give me value of expression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XV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79280" y="981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PA ACL -- Perform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628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not-understo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4221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rox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79280" y="472428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query-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299736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ropa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50920" y="36925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propo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79280" y="515772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query-r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9280" y="5661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ref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79280" y="6093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reject-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132000" y="1628640"/>
            <a:ext cx="6012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indicates that it recognized that an action was performed by other agent but it did not understood why it was performed. (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rror handling mechanis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168720" y="2997360"/>
            <a:ext cx="6011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est to propagate a message to specified ag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168720" y="3716280"/>
            <a:ext cx="60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ke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168720" y="4184640"/>
            <a:ext cx="60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ame as propagate but with proxy functi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68720" y="4653000"/>
            <a:ext cx="60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query for the truth of a stat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132000" y="508464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rect query for the value of an 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558972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ject requ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132000" y="609300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does not accept propos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XV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79280" y="981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PA ACL -- Perform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50920" y="162864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requ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79280" y="2205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request-w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79280" y="285264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request-whene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9280" y="3645000"/>
            <a:ext cx="29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subscrib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56000" y="1592280"/>
            <a:ext cx="60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request for an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456000" y="2168640"/>
            <a:ext cx="60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request to do action if and when a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tement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456000" y="2852640"/>
            <a:ext cx="60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sue request to do action if and whenever a statement is tr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56000" y="3664080"/>
            <a:ext cx="601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nder asks to be notified when statement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an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4000" y="4653000"/>
            <a:ext cx="8351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79280" y="486900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ost performatives contain explanations (e.g. reject mess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256536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7 Agent Commun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XI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981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PA ACL --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50920" y="1773360"/>
            <a:ext cx="8496360" cy="30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emantic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FIPA-ACL i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ormally specified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languag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L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ed on Cohen &amp; Levesque‘s theory of speech acts as rational action.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L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represen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beliefs, desires, uncertain belie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finition (semantics)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each performative contain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feasibility condi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ust be respected by sender)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ational eff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might or might not be respected by recipi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X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9280" y="981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FIPA ACL -- Semant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50920" y="1557360"/>
            <a:ext cx="8496360" cy="19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Example: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finitions of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3300"/>
                </a:solidFill>
                <a:latin typeface="Courier New"/>
              </a:rPr>
              <a:t>request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ff3300"/>
                </a:solidFill>
                <a:latin typeface="Courier New"/>
              </a:rPr>
              <a:t>inform</a:t>
            </a:r>
            <a:r>
              <a:rPr b="0" lang="en-US" sz="2200" spc="-1" strike="noStrike">
                <a:solidFill>
                  <a:srgbClr val="ff3300"/>
                </a:solidFill>
                <a:latin typeface="Arial"/>
              </a:rPr>
              <a:t>.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ub-Expressions: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 : „agent i beliefs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φ“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i f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„agent i has definite opinion concerning truth of φ“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Ui f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„agent i is uncertain about φ“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gent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α,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j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„agent that can do α is j“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α)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: „agent j intends to do α“;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Arial"/>
              </a:rPr>
              <a:t>Done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α)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: „action α has been d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544680" y="350028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&lt;i, inform(j,φ)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905040" y="400536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easibility preco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905040" y="443700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ational eff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7" name=""/>
              <p:cNvSpPr txBox="1"/>
              <p:nvPr/>
            </p:nvSpPr>
            <p:spPr>
              <a:xfrm>
                <a:off x="3189240" y="3979800"/>
                <a:ext cx="36194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ϕ</m:t>
                    </m:r>
                    <m:r>
                      <m:t xml:space="preserve"> 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¬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B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ϕ</m:t>
                    </m:r>
                    <m:r>
                      <m:t xml:space="preserve"> </m:t>
                    </m:r>
                    <m:r>
                      <m:t xml:space="preserve">∨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Ui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8" name=""/>
          <p:cNvSpPr/>
          <p:nvPr/>
        </p:nvSpPr>
        <p:spPr>
          <a:xfrm>
            <a:off x="3133080" y="4368960"/>
            <a:ext cx="619920" cy="47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φ</a:t>
            </a:r>
            <a:r>
              <a:rPr b="0" i="1" lang="en-US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44680" y="5191200"/>
            <a:ext cx="24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&lt;i, request(j,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α</a:t>
            </a:r>
            <a:r>
              <a:rPr b="0" i="1" lang="en-US" sz="2400" spc="-1" strike="noStrike">
                <a:solidFill>
                  <a:srgbClr val="ff3300"/>
                </a:solidFill>
                <a:latin typeface="Times New Roman"/>
              </a:rPr>
              <a:t>)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905040" y="5695920"/>
            <a:ext cx="244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feasibility precon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905040" y="6127920"/>
            <a:ext cx="27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rational effe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2" name=""/>
              <p:cNvSpPr txBox="1"/>
              <p:nvPr/>
            </p:nvSpPr>
            <p:spPr>
              <a:xfrm>
                <a:off x="3208320" y="5686560"/>
                <a:ext cx="44593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gent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,</m:t>
                    </m:r>
                    <m:r>
                      <m:t xml:space="preserve">j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t xml:space="preserve"> </m:t>
                    </m:r>
                    <m:r>
                      <m:t xml:space="preserve">¬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Done</m:t>
                    </m:r>
                    <m:r>
                      <m:t xml:space="preserve">(</m:t>
                    </m:r>
                    <m:r>
                      <m:t xml:space="preserve">α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3" name=""/>
          <p:cNvSpPr/>
          <p:nvPr/>
        </p:nvSpPr>
        <p:spPr>
          <a:xfrm>
            <a:off x="3138840" y="6059520"/>
            <a:ext cx="1188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Done(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)</a:t>
            </a:r>
            <a:r>
              <a:rPr b="0" i="1" lang="en-US" sz="2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XX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79280" y="981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50920" y="1557360"/>
            <a:ext cx="849636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form of (agent) communication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lackboar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Linda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ism for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lackboard communic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concept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Linda Tuple-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uple: List of data element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st: tag (like a class or type of tuple); then: data values (parame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ree possibl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operations: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in, out, r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258920" y="5229360"/>
            <a:ext cx="482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ample for tuple: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 &lt;„person“, „mjw“, 35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2 Agent Communication Languages XX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98100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Li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1557360"/>
            <a:ext cx="849636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out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op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rameters are expressions; expressions are evaluated and resulting tagged tuple is put into tuple-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i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oper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parameters are either expressions or „variables“. If tuple space contains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atching tuple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returned and deleted from tuple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1187280" y="4149720"/>
            <a:ext cx="662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ample: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in(„person“, „mjw“, ?age)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turns      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&lt;„person“, „mjw“, 35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0920" y="5373720"/>
            <a:ext cx="907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</a:rPr>
              <a:t>r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operation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as in but without dele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rations block tuple space until completion (synchroniz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1 Speech Acts 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50920" y="981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Refinement / further development by Sear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250920" y="1557360"/>
            <a:ext cx="8496360" cy="506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ypes of speech a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presentativ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 speaker to truth of expressed proposition. (Paradigm case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Inform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irectiv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empt to get hearer to do sth. (Paradigm case: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quest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missiv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it speaker to course of action. (Paradigm case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Promis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Expressive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ress psychological state (E.g. gratitude) (Paradigm case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Thank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Declarations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ect changes in intuitional state of affairs (Paradigm case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Declaring war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bliography 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24000" y="981000"/>
            <a:ext cx="88200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1]  M. Woolridge: „An Introduction to Multi-Agent-Systems“,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Wiley, 2001, 294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2]  G. Antoniou, F. van Harmelen: „A Semantic Web Primer“,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MIT Press, 2004, 392 pag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2852640"/>
            <a:ext cx="8820000" cy="354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3]  S. Russell, P. Norvig: „Artificial Intelligence: A Modern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         Approach“, Prentice-Hall, 1995, 998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4] J.Schlichter, U.Borghoff: „Computer-supporte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operative Work“, Springer,  2000, 456 pag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5] J. Rosenschein, Univ. of Jerusalem, Lecture Slides „Introduction to MAS“, available through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csc.liv.ac.uk/~mjw/pubs/ima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(website for [1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6]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www.sou.edu/English/Hedges/Sodashop/RCenter/Theory/People/austin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Bibliography I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24000" y="981000"/>
            <a:ext cx="882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[7] W.Wörndl, TU-München, Lecture-slides for „Verteiltes Problemlösen“, SS 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 Agent Commun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1341360"/>
            <a:ext cx="874872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raditional“ computer sciences view o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mmunication in concurrent system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istributed systems): Solve problems like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synchronizing multiple process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necessary if destructive interference is possible)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Example: Lost update scenario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rocesses p1 and p2; shared variable v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1 reads v;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p2 reads v;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p2 updates v; </a:t>
            </a: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 p1 updates v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updates by p2 are los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ossible solution: lock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v after rea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 Agent Communication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1413000"/>
            <a:ext cx="8748720" cy="39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Object orient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mmunic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: Object o2 invokes method m on object o1: Java:  </a:t>
            </a:r>
            <a:r>
              <a:rPr b="1" lang="en-US" sz="2400" spc="-1" strike="noStrike">
                <a:solidFill>
                  <a:srgbClr val="ff3300"/>
                </a:solidFill>
                <a:latin typeface="Courier New"/>
                <a:ea typeface="Arial"/>
              </a:rPr>
              <a:t>o1.m(ar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o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control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over invocation. o1 must invoke m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gen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ie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communicatio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gent a2 asks agent a1 to perform action α. (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2 makes a reques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a1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as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control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 ove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ether i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performs action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α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gents ar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autonomou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 Agent Communication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95280" y="1413000"/>
            <a:ext cx="874872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What agents can do: </a:t>
            </a:r>
            <a:br>
              <a:rPr sz="2400"/>
            </a:br>
            <a:r>
              <a:rPr b="0" lang="en-US" sz="2400" spc="-1" strike="noStrike">
                <a:solidFill>
                  <a:srgbClr val="3399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ommunication ac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Goal: Influenc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agent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.g. to make them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erform action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 to make them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believe certain proposi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Other agent decide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ther to perform action or believe proposi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1 Speech Acts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9280" y="3789360"/>
            <a:ext cx="867564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peech Act Theory: 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Communication as action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peech Acts : Natural language uttera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peech acts: Performatives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acts „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change the world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ke a physical action“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: „I declare you man and wife“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ypes of speech acts </a:t>
            </a:r>
            <a:r>
              <a:rPr b="0" lang="en-US" sz="2400" spc="-1" strike="noStrike">
                <a:solidFill>
                  <a:srgbClr val="ff3300"/>
                </a:solidFill>
                <a:latin typeface="Wingdings"/>
                <a:ea typeface="Wingdings"/>
              </a:rPr>
              <a:t>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performative verb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request, inform, promis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79280" y="3068640"/>
            <a:ext cx="856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riginal Theory by Au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0920" y="1125360"/>
            <a:ext cx="845964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t treatments of communication in (multi-) agent systems borrow their inspiration from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eech act the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ech act theories are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pragmati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ories of language, i.e., theories of language 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1 Speech Acts 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981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riginal Theory by Au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1700280"/>
            <a:ext cx="8496360" cy="43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spect / achievement / result of speech ac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--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Locutionary act: Uttering of a meaningful sentence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-- Illocutionary ac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ing something that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invokes a conventional for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e.g. warning, ordering) (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„indirect“ eff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-- Perlucutionary ac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ing something that ha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direct effec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scaring, alarming, convincing)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erformatives (Speech Acts): neither true or fals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ccess of performatives: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„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felicity condition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836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50920" y="189000"/>
            <a:ext cx="867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7.1 Speech Acts I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981000"/>
            <a:ext cx="856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Original Theory by Aust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95280" y="1844640"/>
            <a:ext cx="8496360" cy="37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Some </a:t>
            </a:r>
            <a:r>
              <a:rPr b="0" i="1" lang="en-US" sz="2400" spc="-1" strike="noStrike">
                <a:solidFill>
                  <a:srgbClr val="ff3300"/>
                </a:solidFill>
                <a:latin typeface="Arial"/>
              </a:rPr>
              <a:t>Felicity conditions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Accepted conventional procedur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tocol, circumstances) for utterance (speech act) must ex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Circumstances must be me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protocol must be adhered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Procedure must be executed properly by participa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ance must b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sinc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3300"/>
              </a:buClr>
              <a:buSzPct val="20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Uptak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d must be</a:t>
            </a: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20T12:37:50Z</dcterms:created>
  <dc:creator>Fridl Bunke</dc:creator>
  <dc:description/>
  <dc:language>en-US</dc:language>
  <cp:lastModifiedBy>georg</cp:lastModifiedBy>
  <dcterms:modified xsi:type="dcterms:W3CDTF">2006-09-19T13:14:10Z</dcterms:modified>
  <cp:revision>226</cp:revision>
  <dc:subject/>
  <dc:title>Folie 1</dc:title>
</cp:coreProperties>
</file>