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9D2A-85A9-446E-8F45-A9AA70185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5A6E-A091-4D49-BC1B-F821808DC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EACA-629F-4B55-8FF4-FF597C479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D2A5-DA9E-40A8-BE62-953E98CD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51494-9AB6-46C5-B752-CB34C9664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3B30-D1BB-4686-9FC5-0A360DB3A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C48C-0647-4425-AD89-FE637F2D3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135C-0F66-4315-A69E-13EE42F59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FC03-A6B8-4543-BE57-764F2C9D7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E4064-7E5F-4566-964F-0CBF92AD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64882-3F13-4A3F-B355-4BC21CDB2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E3F40-0597-4A32-BF23-24B716018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9EADC-6F77-4CA8-9FD5-32D4598F71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csc.liv.ac.uk/~mjw/pubs/imas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40464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-Agent-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013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lides and Lecture: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r. Georg Groh, TU-München, Germany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ohg@in.tum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8446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se slides are based on the boo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. Woolridge „An Introduction to Multi-Agent-Systems“,  Wiley, 200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1484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70828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y were used in the Lecture “Verteiltes Problemlösen: Software Agenten und Semantic Web”, TU-München, Dept. of Informatics, Summ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393372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y can be used for free in any academic teaching scen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4724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3 Example: The Vacuum World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1989000"/>
            <a:ext cx="42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ossible actions: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={turn, forward, suck}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ur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= turn right 90 degre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4356000" y="981000"/>
            <a:ext cx="4624560" cy="40323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54160" y="981000"/>
            <a:ext cx="26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gent‘s objective: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uck up all di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79280" y="3429000"/>
            <a:ext cx="439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omain-Predicates (Facts)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(x,y)  Dirt(x,y)   Facing(d)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south, north, west, east}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869000"/>
            <a:ext cx="43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ent’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next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unction i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3924360" y="4941720"/>
                <a:ext cx="496872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xt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old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∪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new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,</m:t>
                    </m:r>
                    <m:r>
                      <m:t xml:space="preserve">p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1692360" y="5516640"/>
                <a:ext cx="7200720" cy="447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ld</m:t>
                    </m:r>
                    <m:r>
                      <m:t xml:space="preserve">(</m:t>
                    </m:r>
                    <m:r>
                      <m:t xml:space="preserve">Δ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Δ</m:t>
                        </m:r>
                        <m:r>
                          <m:t xml:space="preserve"> </m:t>
                        </m:r>
                        <m:r>
                          <m:t xml:space="preserve">∧</m:t>
                        </m:r>
                        <m:r>
                          <m:t xml:space="preserve"> 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irt</m:t>
                            </m:r>
                            <m:r>
                              <m:t xml:space="preserve">,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Facing</m:t>
                            </m:r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>
            <a:off x="468360" y="551664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692360" y="6093000"/>
                <a:ext cx="2309760" cy="34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w</m:t>
                    </m:r>
                    <m:r>
                      <m:t xml:space="preserve">:</m:t>
                    </m:r>
                    <m:r>
                      <m:t xml:space="preserve">D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er</m:t>
                    </m:r>
                    <m:r>
                      <m:t xml:space="preserve">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6" name=""/>
          <p:cNvSpPr/>
          <p:nvPr/>
        </p:nvSpPr>
        <p:spPr>
          <a:xfrm>
            <a:off x="755640" y="6021360"/>
            <a:ext cx="79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602136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putes new F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3 Example: The Vacuum World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1125360"/>
            <a:ext cx="42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ents database-r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5508720" y="981000"/>
            <a:ext cx="3471840" cy="30276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611280" y="2421000"/>
                <a:ext cx="472104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Dir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D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uc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3" name=""/>
          <p:cNvSpPr/>
          <p:nvPr/>
        </p:nvSpPr>
        <p:spPr>
          <a:xfrm>
            <a:off x="395280" y="184464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bjectiv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335772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ravers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468360" y="3933720"/>
            <a:ext cx="7926480" cy="195732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684360" y="6021360"/>
            <a:ext cx="72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for all other rows according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84360" y="1125360"/>
            <a:ext cx="77054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 classic Logic terminology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duction Rul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 rule that allows t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yntactically deduce new formulas from given formula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gether with the rule-processing algorithm (essentially in most cases an ordering of deduction rules) these deduction rules allow for reasoning (deduction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ample: Modus Ponen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7380360" y="1052640"/>
                <a:ext cx="1076400" cy="56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ρ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5005440" y="4149720"/>
            <a:ext cx="201600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76720" y="3429000"/>
            <a:ext cx="2087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 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56360" y="3645000"/>
            <a:ext cx="2887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733000" y="4365720"/>
            <a:ext cx="465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3924360" y="5300640"/>
                <a:ext cx="38163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(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Dirt</m:t>
                    </m:r>
                    <m:r>
                      <m:t xml:space="preserve">(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D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uc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4" name=""/>
              <p:cNvSpPr txBox="1"/>
              <p:nvPr/>
            </p:nvSpPr>
            <p:spPr>
              <a:xfrm>
                <a:off x="1476360" y="5300640"/>
                <a:ext cx="230976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(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Dirt</m:t>
                    </m:r>
                    <m:r>
                      <m:t xml:space="preserve">(</m:t>
                    </m:r>
                    <m:r>
                      <m:t xml:space="preserve">1,2</m:t>
                    </m:r>
                    <m:r>
                      <m:t xml:space="preserve">)</m:t>
                    </m:r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5" name=""/>
          <p:cNvSpPr/>
          <p:nvPr/>
        </p:nvSpPr>
        <p:spPr>
          <a:xfrm flipV="1">
            <a:off x="1403280" y="5734080"/>
            <a:ext cx="6408720" cy="7128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4140360" y="5950080"/>
                <a:ext cx="12556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uc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18900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.3.1.  A note on wording issues and an „error“ in [3],[5]   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87280" y="19836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2.3.1.  A note on wording issues and an „error“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[3],[5]   I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87280" y="917640"/>
            <a:ext cx="8460000" cy="57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hat is called in [1],[5] a deduction rule is in fact just a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formula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in the agent database (knowledge bas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 an agent’s database we have facts like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nd we can have formulas (called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rule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 like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hich are also in the database.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eduction Rule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(in the usual logic sense) are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not in the databas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. They are part of the reasoning framework. (compare: program vs. interpre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scription Logic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et of fac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database is calle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A-Bo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et of ru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database is calle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T-Box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e Part II of lec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360" y="77472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57120" y="2359080"/>
            <a:ext cx="53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(1,1)  Dirt(0,2)  Dirt(1,2)  Facing(West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232000" y="3583080"/>
                <a:ext cx="443376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Dirt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,</m:t>
                    </m:r>
                    <m:r>
                      <m:t xml:space="preserve">y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Do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uck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4 Performance &amp; Realization 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981000"/>
            <a:ext cx="849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 full FOL it is undecideable whether a formula follows logic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 syntactically via a deduction algorithm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from a set of formulae (databa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ound and complete deduction for FOL is NP-hard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278136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we cannot expect an efficient and reliable logic-based agent if we do not restrict the expressiveness of the logic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4000" y="4149720"/>
            <a:ext cx="849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-func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hard to expres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output of vision system in log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yamic environ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mporal reasoning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very diffic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6165720"/>
            <a:ext cx="835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combine logic approach with procedural approach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602136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5 Agent-Oriented Programming (AOP)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981000"/>
            <a:ext cx="849780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O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ggested b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Y.Shoha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99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 starts from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Intentional Stanc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agents in terms of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mentalistic no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belief, desire, inten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 fact: follows paradigm of declarative programm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95280" y="314172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3789360"/>
            <a:ext cx="8497800" cy="381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ENT0 is LISP based AOP-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ch a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AGENT0 h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 compon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apab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ings the agent can 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initial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initial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mit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ings the agent will 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mitment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9280" y="3068640"/>
            <a:ext cx="849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5 Agent-Oriented Programming (AOP)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50920" y="981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557360"/>
            <a:ext cx="8497800" cy="14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language of 2.2, 2.3.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liefs roughly correspond to database fa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mitment rules correspond to databas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3213000"/>
            <a:ext cx="822960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tion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e of 2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iv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ternally executed compu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municativ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sending messag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essage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e of 3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qu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commit to 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requ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refrain from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form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ch pass on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5 Agent-Oriented Programming (AOP)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981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95280" y="1557360"/>
            <a:ext cx="8229600" cy="48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mmitment ru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essage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ental cond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ction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each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‘agent cycle’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essage condition is matched against mess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 agent has recei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ental condition is matched against belie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5000"/>
              </a:lnSpc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rule fires, then agent becomes committed to the 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action gets added to the agent’s commitment s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5 Agent-Oriented Programming (AOP)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98100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T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26920" y="2421000"/>
            <a:ext cx="7620120" cy="374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IT(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agent, REQUEST, DO(time, 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 ;;; msg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 B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[now, Friend agent]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N(self, action)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T [time, CMT(self, anyaction)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, ;;; mental condi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lf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(time, ac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1700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ample for a commitment rule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7093080" y="2852640"/>
            <a:ext cx="77760" cy="571680"/>
          </a:xfrm>
          <a:custGeom>
            <a:avLst/>
            <a:gdLst>
              <a:gd name="textAreaLeft" fmla="*/ 50040 w 77760"/>
              <a:gd name="textAreaRight" fmla="*/ 78480 w 77760"/>
              <a:gd name="textAreaTop" fmla="*/ 14760 h 571680"/>
              <a:gd name="textAreaBottom" fmla="*/ 55692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476360" y="3500280"/>
            <a:ext cx="217440" cy="1576440"/>
          </a:xfrm>
          <a:custGeom>
            <a:avLst/>
            <a:gdLst>
              <a:gd name="textAreaLeft" fmla="*/ 138960 w 217440"/>
              <a:gd name="textAreaRight" fmla="*/ 217800 w 217440"/>
              <a:gd name="textAreaTop" fmla="*/ 41040 h 1576440"/>
              <a:gd name="textAreaBottom" fmla="*/ 1535400 h 157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232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748280" y="2924280"/>
            <a:ext cx="123228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essage-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"/>
          <p:cNvCxnSpPr>
            <a:stCxn id="181" idx="1"/>
            <a:endCxn id="183" idx="1"/>
          </p:cNvCxnSpPr>
          <p:nvPr/>
        </p:nvCxnSpPr>
        <p:spPr>
          <a:xfrm>
            <a:off x="7183440" y="3138120"/>
            <a:ext cx="558000" cy="111960"/>
          </a:xfrm>
          <a:prstGeom prst="curvedConnector5">
            <a:avLst>
              <a:gd name="adj1" fmla="val 48676"/>
              <a:gd name="adj2" fmla="val 50000"/>
              <a:gd name="adj3" fmla="val 48676"/>
            </a:avLst>
          </a:prstGeom>
          <a:ln w="22320">
            <a:solidFill>
              <a:srgbClr val="333399"/>
            </a:solidFill>
            <a:miter/>
            <a:tail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0" y="4221000"/>
            <a:ext cx="1247760" cy="64260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mental</a:t>
            </a:r>
            <a:br>
              <a:rPr sz="1800"/>
            </a:b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"/>
          <p:cNvCxnSpPr>
            <a:stCxn id="182" idx="1"/>
            <a:endCxn id="185" idx="3"/>
          </p:cNvCxnSpPr>
          <p:nvPr/>
        </p:nvCxnSpPr>
        <p:spPr>
          <a:xfrm flipV="1" rot="10800000">
            <a:off x="1247040" y="4289040"/>
            <a:ext cx="218160" cy="257760"/>
          </a:xfrm>
          <a:prstGeom prst="curvedConnector5">
            <a:avLst>
              <a:gd name="adj1" fmla="val 47438"/>
              <a:gd name="adj2" fmla="val 49930"/>
              <a:gd name="adj3" fmla="val 47438"/>
            </a:avLst>
          </a:prstGeom>
          <a:ln w="22320">
            <a:solidFill>
              <a:srgbClr val="333399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1341360"/>
            <a:ext cx="9540720" cy="23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receive a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essage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 me to d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and I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belie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h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g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s currently a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fri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I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a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o th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m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not commit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doing any other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i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g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ac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5 Agent-Oriented Programming (AOP)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11280" y="3933720"/>
            <a:ext cx="7619760" cy="252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MMIT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 agent, REQUEST, DO(time, 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, ;;; msg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( B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[now, Friend agent]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N(self, action)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OT [time, CMT(self, anyaction)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, ;;; mental cond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l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O(time, actio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2720" y="1052640"/>
            <a:ext cx="51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is rule may be paraphrased as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63640" y="213372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-Agent-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4221000"/>
            <a:ext cx="30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Lecture 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500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6 Concurrent MetateM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923760"/>
            <a:ext cx="8497800" cy="629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current MetateM (M.Fisher,1994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-ag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language in which each agent is programmed by giving it a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mporal log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fication of its behavior which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executed directl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mporal Logic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al Variants of FOL; can expres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“how the truth of propositions changes over time”[5]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mo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on Modal Logic see [1] (chapter 12); more on Temporal Logic see [3]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(chapter 15)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imple example coming u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ch Agent is defin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etateM-program ([1]:“Computational Engine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ents communicate by Broadcast-Mess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execute their objectives concurr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6 Concurrent MetateM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2276640"/>
            <a:ext cx="849780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ent Interfa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ique agent-indentif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Environment Proposition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message proposi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accepted from other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omponent Proposition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message proposi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that can be sent to other agent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332000" y="5661000"/>
            <a:ext cx="61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tack(</a:t>
            </a:r>
            <a:r>
              <a:rPr b="1" lang="en-US" sz="2400" spc="-1" strike="noStrike">
                <a:solidFill>
                  <a:srgbClr val="009999"/>
                </a:solidFill>
                <a:latin typeface="Courier New"/>
              </a:rPr>
              <a:t>pop,push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[</a:t>
            </a:r>
            <a:r>
              <a:rPr b="1" lang="en-US" sz="2400" spc="-1" strike="noStrike">
                <a:solidFill>
                  <a:srgbClr val="ff0066"/>
                </a:solidFill>
                <a:latin typeface="Courier New"/>
              </a:rPr>
              <a:t>popped,ful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755640" y="5156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71640" y="4653000"/>
            <a:ext cx="237672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32000" y="3787920"/>
            <a:ext cx="0" cy="20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24000" y="134136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6 Concurrent MetateM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95280" y="2205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t of rules of the 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141300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etateM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00000" y="263700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tecedent (past)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consequent (present and futu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95280" y="3645000"/>
            <a:ext cx="8497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bbay (1989): Paradigm: “declarative past, imperative futur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pecifying antecedents and consequent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ery basic exampl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 Propositional Metate Logic (P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6 Concurrent MetateM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12536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positional MetateM Logic (P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198900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2708280"/>
            <a:ext cx="871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79280" y="213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403280" y="213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eani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476360" y="2924280"/>
            <a:ext cx="43196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φ is true ‚tomorrow‘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φ was true yesterd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φ was true yesterd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ome time in the future φ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in the future φ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some time in the past φ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 in the past 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7440" y="2924280"/>
            <a:ext cx="1800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φ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φ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φ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φ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φ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φ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φ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06520" y="3067200"/>
            <a:ext cx="215640" cy="215640"/>
          </a:xfrm>
          <a:prstGeom prst="ellipse">
            <a:avLst/>
          </a:pr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06520" y="3821040"/>
            <a:ext cx="215640" cy="216000"/>
          </a:xfrm>
          <a:prstGeom prst="ellipse">
            <a:avLst/>
          </a:prstGeom>
          <a:noFill/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06520" y="4181400"/>
            <a:ext cx="215640" cy="216000"/>
          </a:xfrm>
          <a:prstGeom prst="diamond">
            <a:avLst/>
          </a:pr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06520" y="4541760"/>
            <a:ext cx="215640" cy="216000"/>
          </a:xfrm>
          <a:prstGeom prst="rect">
            <a:avLst/>
          </a:pr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06520" y="4902120"/>
            <a:ext cx="215640" cy="216000"/>
          </a:xfrm>
          <a:prstGeom prst="diamond">
            <a:avLst/>
          </a:pr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44680" y="4940280"/>
            <a:ext cx="144360" cy="144360"/>
          </a:xfrm>
          <a:prstGeom prst="diamond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560" bIns="2556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06520" y="5261040"/>
            <a:ext cx="215640" cy="21600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581800" y="3139920"/>
            <a:ext cx="215640" cy="2160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81800" y="3860640"/>
            <a:ext cx="215640" cy="216000"/>
          </a:xfrm>
          <a:prstGeom prst="ellipse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581800" y="4221000"/>
            <a:ext cx="215640" cy="216000"/>
          </a:xfrm>
          <a:prstGeom prst="diamond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581800" y="4581360"/>
            <a:ext cx="215640" cy="216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5581800" y="4941720"/>
            <a:ext cx="215640" cy="216000"/>
          </a:xfrm>
          <a:prstGeom prst="diamond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5619600" y="4979880"/>
            <a:ext cx="144720" cy="144720"/>
          </a:xfrm>
          <a:prstGeom prst="diamond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581800" y="5300640"/>
            <a:ext cx="215640" cy="216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5810400" y="2975040"/>
                <a:ext cx="151128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↔</m:t>
                    </m:r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506520" y="3427560"/>
            <a:ext cx="215640" cy="2156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81800" y="3500280"/>
            <a:ext cx="215640" cy="21600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5810400" y="3355920"/>
                <a:ext cx="148572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↔</m:t>
                    </m:r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5803920" y="3703680"/>
                <a:ext cx="2633760" cy="49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↔</m:t>
                    </m:r>
                    <m:r>
                      <m:t xml:space="preserve">(</m:t>
                    </m:r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sub>
                    </m:sSub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≠</m:t>
                    </m:r>
                    <m:r>
                      <m:t xml:space="preserve">0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5797440" y="4076640"/>
                <a:ext cx="29988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↔</m:t>
                    </m:r>
                    <m:r>
                      <m:t xml:space="preserve">∃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≥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8" name=""/>
          <p:cNvSpPr/>
          <p:nvPr/>
        </p:nvSpPr>
        <p:spPr>
          <a:xfrm>
            <a:off x="5435640" y="213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cis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9" name=""/>
              <p:cNvSpPr txBox="1"/>
              <p:nvPr/>
            </p:nvSpPr>
            <p:spPr>
              <a:xfrm>
                <a:off x="5805360" y="4424400"/>
                <a:ext cx="31561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↔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≥</m:t>
                    </m:r>
                    <m:r>
                      <m:t xml:space="preserve">i</m:t>
                    </m:r>
                    <m:r>
                      <m:t xml:space="preserve">→</m:t>
                    </m:r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5805360" y="4767120"/>
                <a:ext cx="29988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↔</m:t>
                    </m:r>
                    <m:r>
                      <m:t xml:space="preserve">∃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&lt;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5797440" y="5156280"/>
                <a:ext cx="31561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↔</m:t>
                    </m:r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(</m:t>
                    </m:r>
                    <m:r>
                      <m:t xml:space="preserve">j</m:t>
                    </m:r>
                    <m:r>
                      <m:t xml:space="preserve">&lt;</m:t>
                    </m:r>
                    <m:r>
                      <m:t xml:space="preserve">i</m:t>
                    </m:r>
                    <m:r>
                      <m:t xml:space="preserve">→</m:t>
                    </m:r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"/>
          <p:cNvSpPr/>
          <p:nvPr/>
        </p:nvSpPr>
        <p:spPr>
          <a:xfrm>
            <a:off x="2916360" y="6021360"/>
            <a:ext cx="3095640" cy="4057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„now“ ; 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“start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6 Concurrent MetateM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50920" y="1052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positional MetateM Logic (P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79280" y="1989000"/>
            <a:ext cx="8713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9280" y="2708280"/>
            <a:ext cx="871380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213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per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619280" y="213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eaning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35640" y="213372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cis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916360" y="6237360"/>
            <a:ext cx="3095640" cy="40572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„now“ ;  t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“start“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2924280"/>
            <a:ext cx="18003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φ</a:t>
            </a:r>
            <a:r>
              <a:rPr b="0" lang="en-US" sz="2400" spc="-1" strike="noStrike">
                <a:solidFill>
                  <a:srgbClr val="ff3300"/>
                </a:solidFill>
                <a:latin typeface="Blackadder ITC"/>
              </a:rPr>
              <a:t>U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ψ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φ</a:t>
            </a:r>
            <a:r>
              <a:rPr b="0" lang="en-US" sz="2400" spc="-1" strike="noStrike">
                <a:solidFill>
                  <a:srgbClr val="ff3300"/>
                </a:solidFill>
                <a:latin typeface="Blackadder ITC"/>
              </a:rPr>
              <a:t>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ψ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φ</a:t>
            </a:r>
            <a:r>
              <a:rPr b="0" lang="en-US" sz="2400" spc="-1" strike="noStrike">
                <a:solidFill>
                  <a:srgbClr val="ff3300"/>
                </a:solidFill>
                <a:latin typeface="Blackadder ITC"/>
              </a:rPr>
              <a:t>W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ψ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φ</a:t>
            </a:r>
            <a:r>
              <a:rPr b="0" lang="en-US" sz="2400" spc="-1" strike="noStrike">
                <a:solidFill>
                  <a:srgbClr val="ff3300"/>
                </a:solidFill>
                <a:latin typeface="Blackadder ITC"/>
              </a:rPr>
              <a:t>Z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971640" y="2852640"/>
            <a:ext cx="4319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φ will be true until ψ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φ has been true since ψ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φ will be true while ψ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φ is true zince ψ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4" name=""/>
              <p:cNvSpPr txBox="1"/>
              <p:nvPr/>
            </p:nvSpPr>
            <p:spPr>
              <a:xfrm>
                <a:off x="5435640" y="2852640"/>
                <a:ext cx="16444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↔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→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5" name=""/>
              <p:cNvSpPr txBox="1"/>
              <p:nvPr/>
            </p:nvSpPr>
            <p:spPr>
              <a:xfrm>
                <a:off x="5435640" y="3933720"/>
                <a:ext cx="151272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↔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¬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7564320" y="5445000"/>
                <a:ext cx="162396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:</m:t>
                    </m:r>
                    <m:r>
                      <m:t xml:space="preserve">¬</m:t>
                    </m:r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5343480" y="3573360"/>
                <a:ext cx="385128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↔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: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&lt;</m:t>
                    </m:r>
                    <m:r>
                      <m:t xml:space="preserve">j</m:t>
                    </m:r>
                    <m:r>
                      <m:t xml:space="preserve">→</m:t>
                    </m:r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4495680" y="2852640"/>
            <a:ext cx="12970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ψ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ψ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ψ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φ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</a:rPr>
              <a:t>Z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4684680" y="3213000"/>
                <a:ext cx="4459320" cy="49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:</m:t>
                    </m:r>
                    <m:r>
                      <m:t xml:space="preserve">i</m:t>
                    </m:r>
                    <m:r>
                      <m:t xml:space="preserve">&lt;</m:t>
                    </m:r>
                    <m:r>
                      <m:t xml:space="preserve">k</m:t>
                    </m:r>
                    <m:r>
                      <m:t xml:space="preserve">&lt;</m:t>
                    </m:r>
                    <m:r>
                      <m:t xml:space="preserve">j</m:t>
                    </m:r>
                    <m:r>
                      <m:t xml:space="preserve">→</m:t>
                    </m:r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≥</m:t>
                    </m:r>
                    <m:r>
                      <m:t xml:space="preserve">j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5364000" y="5013360"/>
                <a:ext cx="1602000" cy="52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↔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j</m:t>
                    </m:r>
                    <m:r>
                      <m:t xml:space="preserve">: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r>
                      <m:t xml:space="preserve">∧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1" name=""/>
          <p:cNvSpPr/>
          <p:nvPr/>
        </p:nvSpPr>
        <p:spPr>
          <a:xfrm>
            <a:off x="971640" y="2708280"/>
            <a:ext cx="0" cy="3457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27640" y="2708280"/>
            <a:ext cx="12600" cy="345744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6165720"/>
            <a:ext cx="87138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157720" y="4292640"/>
                <a:ext cx="39355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: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&lt;</m:t>
                    </m:r>
                    <m:r>
                      <m:t xml:space="preserve">i</m:t>
                    </m:r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ψ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5" name=""/>
              <p:cNvSpPr txBox="1"/>
              <p:nvPr/>
            </p:nvSpPr>
            <p:spPr>
              <a:xfrm>
                <a:off x="4586400" y="5407200"/>
                <a:ext cx="3060720" cy="518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: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k</m:t>
                    </m:r>
                    <m:r>
                      <m:t xml:space="preserve">&lt;</m:t>
                    </m:r>
                    <m:r>
                      <m:t xml:space="preserve">j</m:t>
                    </m:r>
                    <m:r>
                      <m:t xml:space="preserve">→</m:t>
                    </m:r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6" name=""/>
              <p:cNvSpPr txBox="1"/>
              <p:nvPr/>
            </p:nvSpPr>
            <p:spPr>
              <a:xfrm>
                <a:off x="5148360" y="4653000"/>
                <a:ext cx="2952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k</m:t>
                    </m:r>
                    <m:r>
                      <m:t xml:space="preserve">:</m:t>
                    </m:r>
                    <m:r>
                      <m:t xml:space="preserve">k</m:t>
                    </m:r>
                    <m:r>
                      <m:t xml:space="preserve">≥</m:t>
                    </m:r>
                    <m:r>
                      <m:t xml:space="preserve">j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t xml:space="preserve">ϕ</m:t>
                    </m:r>
                    <m:sSub>
                      <m:e>
                        <m:r>
                          <m:t xml:space="preserve">|</m:t>
                        </m:r>
                      </m:e>
                      <m: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24000" y="1700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amples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6 Concurrent MetateM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105264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ropositional MetateM Logic (PM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004760" y="2349360"/>
            <a:ext cx="216000" cy="2160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61840" y="2205000"/>
            <a:ext cx="33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(ag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19280" y="270828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t is now and always will be true that agents are important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971640" y="3357720"/>
            <a:ext cx="215640" cy="215640"/>
          </a:xfrm>
          <a:prstGeom prst="diamond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26920" y="3238560"/>
            <a:ext cx="33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(carol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24000" y="3789360"/>
            <a:ext cx="777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ometime in the future, Carolin will be important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971640" y="4437000"/>
            <a:ext cx="48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 friends(us) </a:t>
            </a:r>
            <a:r>
              <a:rPr b="0" lang="en-US" sz="2400" spc="-1" strike="noStrike">
                <a:solidFill>
                  <a:srgbClr val="000000"/>
                </a:solidFill>
                <a:latin typeface="Blackadder ITC"/>
                <a:ea typeface="Arial"/>
              </a:rPr>
              <a:t>U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apologize(yo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5013360"/>
            <a:ext cx="77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e are no friends until you apologiz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187280" y="5661000"/>
            <a:ext cx="216000" cy="216000"/>
          </a:xfrm>
          <a:prstGeom prst="ellipse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187280" y="551664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ologize(yo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826920" y="6093000"/>
            <a:ext cx="547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omorrow you apologiz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2205000"/>
            <a:ext cx="84978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pdate history by receiving matching (wrt. to interface) environment proposition messages from other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heck which rules fire (compare antecedents against hist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ecute / communicate consequents from fired rules and commitments carried over from past cyc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6 Concurrent MetateM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1341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t Cycle for each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6 Concurrent MetateM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24000" y="105264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xample for MetateM programs of 3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170028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p(ask1,ask2)[give1,give2]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1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2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 2"/>
                <a:ea typeface="Wingdings 2"/>
              </a:rPr>
              <a:t>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2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start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(give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cs typeface="Arial"/>
              </a:rPr>
              <a:t>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ive2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0" y="3429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c1(give1)[ask1]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start  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ask1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k1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ask1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0" y="486900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c1(ask1,give2)[ask2]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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k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cs typeface="Arial"/>
              </a:rPr>
              <a:t>۸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¬ask2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ask2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500720" y="1700280"/>
            <a:ext cx="0" cy="515772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500720" y="2205000"/>
            <a:ext cx="4319280" cy="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35600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64000" y="1700280"/>
            <a:ext cx="10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6659640" y="17002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c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96360" y="1700280"/>
            <a:ext cx="107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c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500720" y="1700280"/>
            <a:ext cx="4319280" cy="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00720" y="227664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0               --      ask1      --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00720" y="2781360"/>
            <a:ext cx="49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1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k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ask1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k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,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                              ask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500720" y="357336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2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k1,ask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ask1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k1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give1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00720" y="443700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k1,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ive2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k1,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        ask1    ask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00720" y="5229360"/>
            <a:ext cx="46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4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k1,ask2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ask1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sk1,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give1            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iv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59280" y="2205000"/>
            <a:ext cx="0" cy="465300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516720" y="1700280"/>
            <a:ext cx="0" cy="515772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596360" y="1700280"/>
            <a:ext cx="0" cy="515772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292720" y="1700280"/>
            <a:ext cx="0" cy="50472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8820000" y="1700280"/>
            <a:ext cx="0" cy="515772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500720" y="2781360"/>
            <a:ext cx="4319280" cy="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00720" y="3573360"/>
            <a:ext cx="4319280" cy="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500720" y="4365720"/>
            <a:ext cx="4319280" cy="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00720" y="5229360"/>
            <a:ext cx="4319280" cy="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500720" y="6093000"/>
            <a:ext cx="4319280" cy="0"/>
          </a:xfrm>
          <a:prstGeom prst="line">
            <a:avLst/>
          </a:prstGeom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00720" y="6165720"/>
            <a:ext cx="46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    ..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..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1258920" y="2349360"/>
            <a:ext cx="6119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3 Practical Reasoning Ag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1 Practical Reasoning = Deliberation + ME-Reas.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50920" y="981000"/>
            <a:ext cx="8497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decidabi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plex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unrestrict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L-reasoning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neral F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a general purpose FOL reasoning mechanism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not suitable for agent-architectures.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ame arguments apply to e.g. Ontology languag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ll lead to Description Logics (see part II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708360" y="3141720"/>
            <a:ext cx="719280" cy="720720"/>
          </a:xfrm>
          <a:prstGeom prst="downArrow">
            <a:avLst>
              <a:gd name="adj1" fmla="val 50000"/>
              <a:gd name="adj2" fmla="val 25050"/>
            </a:avLst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24000" y="393372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gents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ractical Reason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asoning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owards a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“figuring out what to do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250920" y="5157720"/>
            <a:ext cx="85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„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Practical Reasoning is a a matter of weighing conflicting considerations for and against competing options, where the relevant considerations are provided by what the agent desires / values / cares and what the agent believes“ (Bratman (see [1]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256536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2   Deductive Reasoning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1 Practical Reasoning = Deliberation + ME-Reas.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0920" y="1125360"/>
            <a:ext cx="849780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“Theoretical Reasoning”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ed toward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beliefs.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Practical Reaso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ed toward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action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ing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wh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of affairs we want to achieve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Deliberat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iding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h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achieve this state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Means End Reasoning (M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of MER: plan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n: commit to plan (or post-cond. of plan rsp.), execute pla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ope: goal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ynamic environments, computational costs of deliberation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deliberation cannot last indefinitely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mus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tro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deliberation-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oals (plan-post-cond.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agent h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mitted to: “intentions”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1 Practical Reasoning = Deliberation + ME-Reas.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0920" y="1484280"/>
            <a:ext cx="8497800" cy="59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rdinary Human point of view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s ~ actions; Intentions ~ states of mi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s “stronger” than desires (wrt. to actions) (E.g.: Desire to be more attractive vs. intention to go to fitness cen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ere: Inten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tes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rectl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 toward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mitment to actions (plans) to achieve state.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ntions drive MER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ut: commitment may change if other actions are more importa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ntions persis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blem: decide when to stick to intentions and when to give them up (compare “functional vs. reactive”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79280" y="9079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1 Practical Reasoning = Deliberation + ME-Reas.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50920" y="1844640"/>
            <a:ext cx="8497800" cy="519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ntions influence reasoning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s inconsistent with intention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uled out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welcome) constraint on altern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tentions </a:t>
            </a: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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influence</a:t>
            </a:r>
            <a:r>
              <a:rPr b="1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belie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“Agent should be believe what he intends”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ntion-Belief-Inconsistenc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φ) while Belief(not_able_to_do(φ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:  Irrational, un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ntion-Belief-Incompletene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(φ) while Belief(will_not_be_the_case(φ)) : May be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179280" y="981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Int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451640" y="4294080"/>
            <a:ext cx="289080" cy="2016360"/>
          </a:xfrm>
          <a:custGeom>
            <a:avLst/>
            <a:gdLst>
              <a:gd name="textAreaLeft" fmla="*/ 0 w 289080"/>
              <a:gd name="textAreaRight" fmla="*/ 104400 w 28908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23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740720" y="4869000"/>
            <a:ext cx="115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sym-metr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596360" y="5732640"/>
            <a:ext cx="136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3300"/>
                </a:solidFill>
                <a:latin typeface="Arial"/>
              </a:rPr>
              <a:t>(Bratman (see [1]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1 Practical Reasoning = Deliberation + ME-Reas.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0920" y="981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liefs, Desires, Intentions: Symbolically represent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4" name=""/>
              <p:cNvSpPr txBox="1"/>
              <p:nvPr/>
            </p:nvSpPr>
            <p:spPr>
              <a:xfrm>
                <a:off x="158760" y="1484280"/>
                <a:ext cx="28288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B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B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5" name=""/>
              <p:cNvSpPr txBox="1"/>
              <p:nvPr/>
            </p:nvSpPr>
            <p:spPr>
              <a:xfrm>
                <a:off x="3276720" y="1484280"/>
                <a:ext cx="300996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es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D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6" name=""/>
              <p:cNvSpPr txBox="1"/>
              <p:nvPr/>
            </p:nvSpPr>
            <p:spPr>
              <a:xfrm>
                <a:off x="6615000" y="1484280"/>
                <a:ext cx="2529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I</m:t>
                        </m:r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'</m:t>
                            </m:r>
                            <m:r>
                              <m:t xml:space="preserve">'</m:t>
                            </m:r>
                          </m:sup>
                        </m:sSup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47" name=""/>
          <p:cNvSpPr/>
          <p:nvPr/>
        </p:nvSpPr>
        <p:spPr>
          <a:xfrm>
            <a:off x="250920" y="213372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liberation =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option, filter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8" name=""/>
              <p:cNvSpPr txBox="1"/>
              <p:nvPr/>
            </p:nvSpPr>
            <p:spPr>
              <a:xfrm>
                <a:off x="971640" y="2637000"/>
                <a:ext cx="37321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options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Des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900000" y="3141720"/>
                <a:ext cx="4245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filter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Des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p>
                    </m:sSup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324000" y="45100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ltering function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lter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lects intentions (commit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4000" y="393372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ption generation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on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nerates desires (go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24000" y="508464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lief revision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brf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pdates belief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1569960" y="5734080"/>
                <a:ext cx="319104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rf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</m:sup>
                    </m:sSup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er</m:t>
                    </m:r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354" name=""/>
          <p:cNvSpPr/>
          <p:nvPr/>
        </p:nvSpPr>
        <p:spPr>
          <a:xfrm>
            <a:off x="5724360" y="5805360"/>
            <a:ext cx="295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compare next function in former mode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836640"/>
            <a:ext cx="63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2 Means End Reasoning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46200" y="1557360"/>
            <a:ext cx="8497800" cy="45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ER: In AI known as Plan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pu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Planning / MER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ommitted goal, “task”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maintenance or avoidance task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agen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lief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current state of environ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oric capabilities (possibl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utput: Plan (Sequence of actions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ding to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 planning system: STRIPS: State of the world: FOL formulas. Actions: pre-condi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φ; post-condition 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58120" y="1359000"/>
            <a:ext cx="2141280" cy="8222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443640" y="333360"/>
            <a:ext cx="8222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goal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intention/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34280" y="345960"/>
            <a:ext cx="766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tate of environ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101080" y="450720"/>
            <a:ext cx="930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135920" y="1557360"/>
            <a:ext cx="129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la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083360" y="2576520"/>
            <a:ext cx="1252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lan to achieve go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804000" y="981000"/>
            <a:ext cx="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729560" y="996840"/>
            <a:ext cx="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539200" y="996840"/>
            <a:ext cx="0" cy="33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7689960" y="2214720"/>
            <a:ext cx="0" cy="32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2 Means End Reasoning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8360" y="206064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ree Blocks (A, B, C)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and robot ar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50920" y="83664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anning.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STRIPS &amp;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 The Blocks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429080" y="2657520"/>
            <a:ext cx="471636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156520" y="2398680"/>
            <a:ext cx="719280" cy="21744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rot="19665600">
            <a:off x="8089920" y="1224000"/>
            <a:ext cx="216000" cy="122220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00880" y="2111400"/>
            <a:ext cx="432000" cy="4334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rot="17364600">
            <a:off x="7148520" y="548640"/>
            <a:ext cx="215640" cy="12225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7653240" y="1103400"/>
            <a:ext cx="432000" cy="4334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4844880" y="1535040"/>
            <a:ext cx="6573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840200" y="2092320"/>
            <a:ext cx="6573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084720" y="1413000"/>
            <a:ext cx="93528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9440" y="1555920"/>
            <a:ext cx="646200" cy="431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869080" y="1844640"/>
            <a:ext cx="1296720" cy="57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919840" y="2092320"/>
            <a:ext cx="65700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445080" y="1052640"/>
            <a:ext cx="216000" cy="36036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356520" y="765000"/>
            <a:ext cx="431640" cy="433440"/>
          </a:xfrm>
          <a:prstGeom prst="ellipse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442200" y="1413000"/>
            <a:ext cx="215640" cy="142920"/>
          </a:xfrm>
          <a:prstGeom prst="rect">
            <a:avLst/>
          </a:prstGeom>
          <a:solidFill>
            <a:srgbClr val="ffffff"/>
          </a:solidFill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462720" y="1484280"/>
            <a:ext cx="179280" cy="144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68360" y="306864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t of Predicates for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World Descrip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500720" y="2860560"/>
            <a:ext cx="180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n(X,Y)  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OnTable(X)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Clear(X)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olding(X)</a:t>
            </a:r>
            <a:br>
              <a:rPr sz="2000"/>
            </a:b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rmEmp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156360" y="2898720"/>
            <a:ext cx="3240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ock X is on top of Y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lock X is on table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thing is on top of X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rm holds Block X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rm holds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84720" y="2852640"/>
            <a:ext cx="0" cy="1728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356000" y="2852640"/>
            <a:ext cx="4608720" cy="172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68360" y="472428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urrent world state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(agents belief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356000" y="4724280"/>
            <a:ext cx="53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{Clear(A), On(A,B), OnTable(B), OnTable (C), Clear(C), ArmEmpt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65120" y="5805360"/>
            <a:ext cx="893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ample f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e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nt:   {OnTable(A), OnTable(B), OnTable(C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2 Means End Reasoning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324000" y="155736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from a set of actions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s tripl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50920" y="98100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anning.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STRIPS &amp; The Blocks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1547640" y="1917720"/>
                <a:ext cx="22752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α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4869000" y="1511280"/>
                <a:ext cx="2401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324000" y="2492280"/>
            <a:ext cx="849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t of FOL formulae: Pre-conditions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24000" y="2925720"/>
            <a:ext cx="849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α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t of FOL formulae: Delete-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24000" y="3357720"/>
            <a:ext cx="8497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Arial"/>
              </a:rPr>
              <a:t>α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t of FOL formulae: Add-set of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79280" y="4076640"/>
            <a:ext cx="8640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79280" y="5300640"/>
            <a:ext cx="403236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{Clear(Y), Holding(X)}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{Clear(Y), Holding(X)}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{ArmEmpty, On(X,Y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9280" y="479592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tack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79280" y="5299200"/>
            <a:ext cx="36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79280" y="4795920"/>
            <a:ext cx="3672000" cy="180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067280" y="5302080"/>
            <a:ext cx="48956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{Clear(X), On(X,Y), ArmEmpty}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{On(X,Y), ArmEmpty}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{Holding(X), Clear(Y)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067280" y="479736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nStack(X,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067280" y="5300640"/>
            <a:ext cx="48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067280" y="4797360"/>
            <a:ext cx="4824360" cy="18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250920" y="414972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tions (Operato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2 Means End Reasoning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907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anning.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STRIPS &amp; The Blocks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9280" y="2131920"/>
            <a:ext cx="403236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= {Holding(X)}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= {Holding(X)}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= {ArmEmpty, OnTable(X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43720" y="1652760"/>
            <a:ext cx="1593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utDown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2130480"/>
            <a:ext cx="3672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79280" y="1627200"/>
            <a:ext cx="3672000" cy="18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067280" y="2133720"/>
            <a:ext cx="4825800" cy="12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= {Clear(X), OnTable(X), ArmEmpty}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= {OnTable(X), ArmEmpty}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= {Holding(X)}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067280" y="1628640"/>
            <a:ext cx="22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ickup(X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067280" y="2131920"/>
            <a:ext cx="48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067280" y="1628640"/>
            <a:ext cx="4824360" cy="18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79280" y="3573360"/>
            <a:ext cx="871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0" y="3789360"/>
            <a:ext cx="9288360" cy="19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anning probl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tri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Δ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: Initial beliefs of ag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                                               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: set of action (operator) descrip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    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: set of intentions (task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3995640" y="3789360"/>
                <a:ext cx="1379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,</m:t>
                    </m:r>
                    <m:r>
                      <m:t xml:space="preserve">O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29" name=""/>
              <p:cNvSpPr txBox="1"/>
              <p:nvPr/>
            </p:nvSpPr>
            <p:spPr>
              <a:xfrm>
                <a:off x="826920" y="5373720"/>
                <a:ext cx="255600" cy="41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826920" y="4797360"/>
                <a:ext cx="3600720" cy="50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O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α</m:t>
                            </m:r>
                          </m:sub>
                        </m:sSub>
                        <m:r>
                          <m:t xml:space="preserve">&gt;</m:t>
                        </m:r>
                        <m:r>
                          <m:t xml:space="preserve"> </m:t>
                        </m:r>
                        <m:r>
                          <m:t xml:space="preserve">|</m:t>
                        </m:r>
                        <m:r>
                          <m:t xml:space="preserve">α</m:t>
                        </m:r>
                        <m:r>
                          <m:t xml:space="preserve">∈</m:t>
                        </m:r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0" y="587700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a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quence of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2" name=""/>
              <p:cNvSpPr txBox="1"/>
              <p:nvPr/>
            </p:nvSpPr>
            <p:spPr>
              <a:xfrm>
                <a:off x="5580000" y="5805360"/>
                <a:ext cx="2249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3" name=""/>
              <p:cNvSpPr txBox="1"/>
              <p:nvPr/>
            </p:nvSpPr>
            <p:spPr>
              <a:xfrm>
                <a:off x="1081080" y="5851440"/>
                <a:ext cx="1295280" cy="4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la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2 Means End Reasoning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50920" y="907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anning.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STRIPS &amp; The Blocks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9280" y="1557360"/>
            <a:ext cx="9288720" cy="15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rt. Planning problem                   a plan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                              determines a sequence of n+1 Environment Models </a:t>
            </a:r>
            <a:br>
              <a:rPr sz="2200"/>
            </a:b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  with              and                                     for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8" name=""/>
              <p:cNvSpPr txBox="1"/>
              <p:nvPr/>
            </p:nvSpPr>
            <p:spPr>
              <a:xfrm>
                <a:off x="3672000" y="1700280"/>
                <a:ext cx="1379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,</m:t>
                    </m:r>
                    <m:r>
                      <m:t xml:space="preserve">O</m:t>
                    </m:r>
                    <m:r>
                      <m:t xml:space="preserve">,</m:t>
                    </m:r>
                    <m:r>
                      <m:t xml:space="preserve">γ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39" name=""/>
              <p:cNvSpPr txBox="1"/>
              <p:nvPr/>
            </p:nvSpPr>
            <p:spPr>
              <a:xfrm>
                <a:off x="6119640" y="1628640"/>
                <a:ext cx="2249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0" name=""/>
              <p:cNvSpPr txBox="1"/>
              <p:nvPr/>
            </p:nvSpPr>
            <p:spPr>
              <a:xfrm>
                <a:off x="358920" y="2637000"/>
                <a:ext cx="17888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1" name=""/>
              <p:cNvSpPr txBox="1"/>
              <p:nvPr/>
            </p:nvSpPr>
            <p:spPr>
              <a:xfrm>
                <a:off x="2806560" y="2637000"/>
                <a:ext cx="919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2" name=""/>
              <p:cNvSpPr txBox="1"/>
              <p:nvPr/>
            </p:nvSpPr>
            <p:spPr>
              <a:xfrm>
                <a:off x="4390920" y="2637000"/>
                <a:ext cx="426888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sSub>
                      <m:e/>
                      <m: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)</m:t>
                    </m:r>
                    <m:r>
                      <m:t xml:space="preserve">∪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3" name=""/>
          <p:cNvSpPr/>
          <p:nvPr/>
        </p:nvSpPr>
        <p:spPr>
          <a:xfrm>
            <a:off x="179280" y="378936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an i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ceptabl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f                 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672000" y="3718080"/>
                <a:ext cx="281124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i</m:t>
                    </m:r>
                    <m:r>
                      <m:t xml:space="preserve">≤</m:t>
                    </m:r>
                    <m:r>
                      <m:t xml:space="preserve">n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179280" y="436572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an i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rrec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f it is acceptable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6" name=""/>
              <p:cNvSpPr txBox="1"/>
              <p:nvPr/>
            </p:nvSpPr>
            <p:spPr>
              <a:xfrm>
                <a:off x="5767560" y="4307040"/>
                <a:ext cx="125244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γ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7" name=""/>
          <p:cNvSpPr/>
          <p:nvPr/>
        </p:nvSpPr>
        <p:spPr>
          <a:xfrm>
            <a:off x="179280" y="4941720"/>
            <a:ext cx="849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ation: If                  is set of beliefs and                is set of intentions we write:                            if plan is correct wrt. planning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8" name=""/>
              <p:cNvSpPr txBox="1"/>
              <p:nvPr/>
            </p:nvSpPr>
            <p:spPr>
              <a:xfrm>
                <a:off x="2230560" y="4941720"/>
                <a:ext cx="140652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⊆</m:t>
                    </m:r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9" name=""/>
              <p:cNvSpPr txBox="1"/>
              <p:nvPr/>
            </p:nvSpPr>
            <p:spPr>
              <a:xfrm>
                <a:off x="6264360" y="4938840"/>
                <a:ext cx="1279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⊆</m:t>
                    </m:r>
                    <m:r>
                      <m:rPr>
                        <m:lit/>
                        <m:nor/>
                      </m:rPr>
                      <m:t xml:space="preserve">Int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0" name=""/>
              <p:cNvSpPr txBox="1"/>
              <p:nvPr/>
            </p:nvSpPr>
            <p:spPr>
              <a:xfrm>
                <a:off x="2951280" y="5302080"/>
                <a:ext cx="260820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und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,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51" name=""/>
              <p:cNvSpPr txBox="1"/>
              <p:nvPr/>
            </p:nvSpPr>
            <p:spPr>
              <a:xfrm>
                <a:off x="2676600" y="5662440"/>
                <a:ext cx="135396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O</m:t>
                    </m:r>
                    <m:r>
                      <m:t xml:space="preserve">,</m:t>
                    </m:r>
                    <m:r>
                      <m:t xml:space="preserve">I</m:t>
                    </m:r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2 Means End Reasoning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0920" y="907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Planning.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STRIPS &amp; The Blocks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79280" y="3284640"/>
            <a:ext cx="849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stead of computing plan anew every time: choose plan with matching pre-condition and final post-condition out of plan librar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79280" y="1628640"/>
            <a:ext cx="849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verall means-end reasoning capability of agent implemented in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2050920" y="2421000"/>
                <a:ext cx="435780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lan</m:t>
                    </m:r>
                    <m:r>
                      <m:t xml:space="preserve">: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Bel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Int</m:t>
                        </m:r>
                      </m:sup>
                    </m:sSup>
                    <m:r>
                      <m:t xml:space="preserve">×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sup>
                    </m:sSup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lan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900000" y="1989000"/>
            <a:ext cx="7417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dactic remark: Useful prerequisite for this lecture is a basic understanding of First-Order-Predicate-Logic (FOL) (syntax and semantics) and of basic principles of deduction in FOL (soundness and completeness, unification etc.)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knowledge can be obtained via chapters 6 and 7 of [3]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3 Implementing Practical Reasoning Agent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5092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verall Agents Control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4859280" y="3068640"/>
                <a:ext cx="3597480" cy="57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body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4786200" y="2276640"/>
                <a:ext cx="2070360" cy="60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pre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4859280" y="3860640"/>
                <a:ext cx="2863800" cy="50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mpty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r>
                      <m:t xml:space="preserve">π</m:t>
                    </m:r>
                    <m:r>
                      <m:t xml:space="preserve">=</m:t>
                    </m:r>
                    <m:r>
                      <m:t xml:space="preserve">(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250920" y="1413000"/>
            <a:ext cx="3343320" cy="522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65" name=""/>
          <p:cNvSpPr/>
          <p:nvPr/>
        </p:nvSpPr>
        <p:spPr>
          <a:xfrm>
            <a:off x="2124000" y="1413000"/>
            <a:ext cx="122400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1763640" y="3908520"/>
            <a:ext cx="720720" cy="20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π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771640" y="5830920"/>
            <a:ext cx="358920" cy="204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,A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8" name=""/>
              <p:cNvSpPr txBox="1"/>
              <p:nvPr/>
            </p:nvSpPr>
            <p:spPr>
              <a:xfrm>
                <a:off x="4859280" y="5300640"/>
                <a:ext cx="219564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head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9" name=""/>
              <p:cNvSpPr txBox="1"/>
              <p:nvPr/>
            </p:nvSpPr>
            <p:spPr>
              <a:xfrm>
                <a:off x="4859280" y="4581360"/>
                <a:ext cx="2833920" cy="5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ail</m:t>
                    </m:r>
                    <m:r>
                      <m:t xml:space="preserve">(</m:t>
                    </m:r>
                    <m:r>
                      <m:t xml:space="preserve">π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70" name=""/>
          <p:cNvSpPr/>
          <p:nvPr/>
        </p:nvSpPr>
        <p:spPr>
          <a:xfrm>
            <a:off x="4140360" y="155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3 Implementing Practical Reasoning Agent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092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verall Agents Control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403280" y="1413000"/>
            <a:ext cx="6224760" cy="972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5" name=""/>
          <p:cNvSpPr/>
          <p:nvPr/>
        </p:nvSpPr>
        <p:spPr>
          <a:xfrm>
            <a:off x="4859280" y="1484280"/>
            <a:ext cx="1728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4356000" y="6093000"/>
            <a:ext cx="122400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head(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1547640" y="-3411360"/>
            <a:ext cx="6224760" cy="9720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78" name=""/>
          <p:cNvSpPr/>
          <p:nvPr/>
        </p:nvSpPr>
        <p:spPr>
          <a:xfrm>
            <a:off x="4859280" y="1484280"/>
            <a:ext cx="1728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227640" y="4818240"/>
            <a:ext cx="576360" cy="387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000" tIns="10800" bIns="10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,A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1187280" y="-171360"/>
            <a:ext cx="6697800" cy="21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3 Implementing Practical Reasoning Agent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250920" y="90792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Overall Agents Control 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4859280" y="1484280"/>
            <a:ext cx="1728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3 Implementing Practical Reasoning Agent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0920" y="907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mitment to ends and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179280" y="1628640"/>
            <a:ext cx="8498160" cy="16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ption passes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commitment to o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uestion: How long will commitment last? What circumstances change commitment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ao&amp;Georgeff([8])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Three commitment strategie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11280" y="350028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lind commitment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intention until believe that intention has been achiev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11280" y="4437000"/>
            <a:ext cx="853272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ngle-minded commitment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intention until believe that intention has been achiev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or it is impossible to achieve int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11280" y="573408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pen-minded commitment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intain intention as long as still believed pos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4859280" y="1484280"/>
            <a:ext cx="1728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3 Implementing Practical Reasoning Agent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50920" y="907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mitment to ends and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9280" y="16286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re formally (special modal logics of Rao&amp;Georgeff([8]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24000" y="2205000"/>
            <a:ext cx="900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lind commitment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24000" y="3284640"/>
            <a:ext cx="853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ngle-minded commitment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4000" y="4581360"/>
            <a:ext cx="806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pen-minded commitment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179280" y="2708280"/>
                <a:ext cx="87138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N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evitable</m:t>
                    </m:r>
                    <m:r>
                      <m:t xml:space="preserve"> </m:t>
                    </m:r>
                    <m:r>
                      <m:t xml:space="preserve">⋄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inevitabl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TEN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evitable</m:t>
                    </m:r>
                    <m:r>
                      <m:t xml:space="preserve"> </m:t>
                    </m:r>
                    <m:r>
                      <m:t xml:space="preserve">⋄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∪</m:t>
                    </m:r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1" name=""/>
              <p:cNvSpPr txBox="1"/>
              <p:nvPr/>
            </p:nvSpPr>
            <p:spPr>
              <a:xfrm>
                <a:off x="250920" y="3789360"/>
                <a:ext cx="739908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N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evitable</m:t>
                    </m:r>
                    <m:r>
                      <m:t xml:space="preserve"> </m:t>
                    </m:r>
                    <m:r>
                      <m:t xml:space="preserve">⋄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inevitabl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TEN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evitable</m:t>
                    </m:r>
                    <m:r>
                      <m:t xml:space="preserve"> </m:t>
                    </m:r>
                    <m:r>
                      <m:t xml:space="preserve">⋄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2" name=""/>
              <p:cNvSpPr txBox="1"/>
              <p:nvPr/>
            </p:nvSpPr>
            <p:spPr>
              <a:xfrm>
                <a:off x="4716360" y="4149720"/>
                <a:ext cx="4089600" cy="38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tional</m:t>
                    </m:r>
                    <m:r>
                      <m:t xml:space="preserve"> </m:t>
                    </m:r>
                    <m:r>
                      <m:t xml:space="preserve">⋄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3" name=""/>
              <p:cNvSpPr txBox="1"/>
              <p:nvPr/>
            </p:nvSpPr>
            <p:spPr>
              <a:xfrm>
                <a:off x="250920" y="5084640"/>
                <a:ext cx="739908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INTEN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evitable</m:t>
                    </m:r>
                    <m:r>
                      <m:t xml:space="preserve"> </m:t>
                    </m:r>
                    <m:r>
                      <m:t xml:space="preserve">⋄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inevitable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TEN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inevitable</m:t>
                    </m:r>
                    <m:r>
                      <m:t xml:space="preserve"> </m:t>
                    </m:r>
                    <m:r>
                      <m:t xml:space="preserve">⋄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4" name=""/>
              <p:cNvSpPr txBox="1"/>
              <p:nvPr/>
            </p:nvSpPr>
            <p:spPr>
              <a:xfrm>
                <a:off x="4595760" y="5445000"/>
                <a:ext cx="433224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EL</m:t>
                    </m:r>
                    <m:r>
                      <m:t xml:space="preserve">(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GOA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ptional</m:t>
                    </m:r>
                    <m:r>
                      <m:t xml:space="preserve"> </m:t>
                    </m:r>
                    <m:r>
                      <m:t xml:space="preserve">⋄</m:t>
                    </m:r>
                    <m:r>
                      <m:t xml:space="preserve">ϕ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4859280" y="1484280"/>
            <a:ext cx="1728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3 Implementing Practical Reasoning Agents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250920" y="907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mitment to ends and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9280" y="1628640"/>
            <a:ext cx="8964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verall Agents control loop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from 3.3: single minded commitment: maintain commitment until succeeded or believe intention is impossible or nothing more to execute (lines 10-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ntion is both to ends and mea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tention to ends implies intention to means to reach ends (goals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question how long commitment lasts </a:t>
            </a:r>
            <a:r>
              <a:rPr b="0" lang="en-US" sz="2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How often will agent deliberate </a:t>
            </a:r>
            <a:r>
              <a:rPr b="0" lang="en-US" sz="2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how often wil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consider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be executed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option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filter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were computationally cheap </a:t>
            </a:r>
            <a:r>
              <a:rPr b="0" lang="en-US" sz="2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consider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after every step. But both are costly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commitment changes too often </a:t>
            </a:r>
            <a:r>
              <a:rPr b="0" lang="en-US" sz="2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no “rationality”. Commitment never changes  </a:t>
            </a:r>
            <a:r>
              <a:rPr b="0" lang="en-US" sz="24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too inflex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mpare functional vs. reacti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"/>
          <p:cNvSpPr/>
          <p:nvPr/>
        </p:nvSpPr>
        <p:spPr>
          <a:xfrm>
            <a:off x="4859280" y="1484280"/>
            <a:ext cx="1728720" cy="21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3.3 Implementing Practical Reasoning Agents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50920" y="90792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mitment to ends and me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179280" y="1557360"/>
            <a:ext cx="849816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mally: “degree of boldness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umber of steps between reconsider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vs. “rate of environment change”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umber of steps between external environment chang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consi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rue (agent chooses to deliberate)  but intentions are not chang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liberation was usel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0066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Simply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econsider</a:t>
            </a:r>
            <a:r>
              <a:rPr b="0" lang="en-US" sz="2400" spc="-1" strike="noStrike">
                <a:solidFill>
                  <a:srgbClr val="ff0066"/>
                </a:solidFill>
                <a:latin typeface="Arial"/>
              </a:rPr>
              <a:t> is optimal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826920" y="443700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hose to delibe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700360" y="4437000"/>
            <a:ext cx="194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hanged inten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4643280" y="4292640"/>
            <a:ext cx="2089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hould have changed intention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6732720" y="4437000"/>
            <a:ext cx="180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reconsider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optima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324000" y="4292640"/>
            <a:ext cx="820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324000" y="5229360"/>
            <a:ext cx="820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58920" y="551664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332000" y="6165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1332000" y="5805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7093080" y="5229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148360" y="551664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5076720" y="587700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93080" y="6165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1258920" y="522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075280" y="52275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7007400" y="55548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3276720" y="616572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203640" y="5805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020000" y="5877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076720" y="621648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3203640" y="52293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3203640" y="5497560"/>
            <a:ext cx="93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Arial"/>
              </a:rPr>
              <a:t>*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1258920" y="5937120"/>
            <a:ext cx="6769080" cy="12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bliography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324000" y="981000"/>
            <a:ext cx="882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1]  M. Woolridge: „An Introduction to Multi-Agent-Systems“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ey, 2001, 294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2]  G. Antoniou, F. van Harmelen: „A Semantic Web Primer“,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IT Press, 2004, 392 p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324000" y="2852640"/>
            <a:ext cx="8820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3]  S. Russell, P. Norvig: „Artificial Intelligence: A Modern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    Approach“, Prentice-Hall, 1995, 998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4] J.Schlichter, U.Borghoff: „Computer-support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operative Work“, Springer,  2000, 456 p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5] G.Weiß (ed.): „Multi-Agent-Systems“, MIT-Press, 1999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76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6] J. Rosenschein, Univ. of Jerusalem, Lecture Slides „Introduction to MAS“, available through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sc.liv.ac.uk/~mjw/pubs/ima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(website for [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bliography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24000" y="981000"/>
            <a:ext cx="8820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6] W.Wörndl, TU-München, Lecture-slides for „Verteiltes Problemlösen“, SS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7] M.Richter „Prinzipien der künstlichen Intelligenz“, Teubner,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8] A.Rao, M.Georgeff: „Modeling Rational Agents within a BDI-Architecture“, Proc. Knowledge Representation and Reasoning KR&amp;R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1 Logic and Reas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1989000"/>
            <a:ext cx="8064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gic Language 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proper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yntax and Semantic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most cases a fragment of F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ound and complete deduction formal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8360" y="1125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95280" y="98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nciples of Logic and Deduction (Form of reasoning)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declarative program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6732720" y="2852640"/>
                <a:ext cx="19875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Φ</m:t>
                    </m:r>
                    <m:r>
                      <m:t xml:space="preserve">|</m:t>
                    </m:r>
                    <m:r>
                      <m:t xml:space="preserve">−</m:t>
                    </m:r>
                    <m:r>
                      <m:t xml:space="preserve">ϕ</m:t>
                    </m:r>
                    <m:r>
                      <m:t xml:space="preserve">⇔</m:t>
                    </m:r>
                    <m:r>
                      <m:t xml:space="preserve">Φ</m:t>
                    </m:r>
                    <m:r>
                      <m:t xml:space="preserve">|</m:t>
                    </m:r>
                    <m:r>
                      <m:t xml:space="preserve">=</m:t>
                    </m:r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468360" y="3429000"/>
            <a:ext cx="8353440" cy="32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bl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tated via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et of formulae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Φ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knowledge base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formula (theorem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prove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. Deduction is syntactic manipulation of formula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a fixed algorithm via a fix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t of deduction rul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ρ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volving e.g. tableaux, unification, skolemization etc.) until proof is comple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forms of formulae (e.g. Horn-logic (PROLOG)) and deduction-algorithms (e.g. SLD-resolution (PROLOG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1 Logic and Ded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8360" y="1125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95280" y="98100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inciples of Logic and Deduction (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declarative programming)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gents as theorem prov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340000" y="2133720"/>
            <a:ext cx="626436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ransduction problem: How to translate real world into symbolic descrip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CR, robot vision, speech recognition etc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presentation problem: How can a symbolic description language be found, whose syntax and semantics reflect the world that is to be described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F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asoning problem: algorithmic derivation of new knowledge (symbolic descriptions) from exist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908000" y="1989000"/>
            <a:ext cx="433440" cy="4321440"/>
          </a:xfrm>
          <a:custGeom>
            <a:avLst/>
            <a:gdLst>
              <a:gd name="textAreaLeft" fmla="*/ 276840 w 433440"/>
              <a:gd name="textAreaRight" fmla="*/ 433800 w 433440"/>
              <a:gd name="textAreaTop" fmla="*/ 112680 h 4321440"/>
              <a:gd name="textAreaBottom" fmla="*/ 4208760 h 432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24000" y="3860640"/>
            <a:ext cx="158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2 Agents as Theorem Prover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95280" y="907920"/>
            <a:ext cx="806436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finition deliberative agent or agent architect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a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plicitly represented, symbolic model of the 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cis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.g. about what actions to perform)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ia symbolic reaso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5280" y="350028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gent as theorem pr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/ declarative implementation of formal agent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5280" y="4508640"/>
            <a:ext cx="8748720" cy="23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L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 FOL with enumerable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=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: set of possible agent databases (knowledge bases):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D={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..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formul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φ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an be proved from databas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using set of deduction rul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966960" y="5950080"/>
                <a:ext cx="1012680" cy="493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−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ϕ</m:t>
                    </m:r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179280" y="335772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2 Agents as Theorem Prover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6" name=""/>
              <p:cNvSpPr txBox="1"/>
              <p:nvPr/>
            </p:nvSpPr>
            <p:spPr>
              <a:xfrm>
                <a:off x="539640" y="1052640"/>
                <a:ext cx="3646440" cy="63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ctio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ex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611280" y="1844640"/>
                <a:ext cx="22161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e</m:t>
                    </m:r>
                    <m:r>
                      <m:t xml:space="preserve">:</m:t>
                    </m:r>
                    <m:r>
                      <m:t xml:space="preserve">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e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611280" y="2349360"/>
                <a:ext cx="30099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xt</m:t>
                    </m:r>
                    <m:r>
                      <m:t xml:space="preserve">:</m:t>
                    </m:r>
                    <m:r>
                      <m:t xml:space="preserve">D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er</m:t>
                    </m:r>
                    <m:r>
                      <m:t xml:space="preserve">→</m:t>
                    </m:r>
                    <m:r>
                      <m:t xml:space="preserve">D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"/>
              <p:cNvSpPr txBox="1"/>
              <p:nvPr/>
            </p:nvSpPr>
            <p:spPr>
              <a:xfrm>
                <a:off x="630360" y="2925720"/>
                <a:ext cx="2376360" cy="441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ion</m:t>
                    </m:r>
                    <m:r>
                      <m:t xml:space="preserve">:</m:t>
                    </m:r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0" name=""/>
          <p:cNvSpPr/>
          <p:nvPr/>
        </p:nvSpPr>
        <p:spPr>
          <a:xfrm>
            <a:off x="3132000" y="3573360"/>
            <a:ext cx="2376720" cy="187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51280" y="3573360"/>
            <a:ext cx="8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132000" y="5635800"/>
            <a:ext cx="2376720" cy="93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351240" y="5805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5219280" y="4292640"/>
            <a:ext cx="1297080" cy="1944720"/>
            <a:chOff x="5219280" y="4292640"/>
            <a:chExt cx="1297080" cy="1944720"/>
          </a:xfrm>
        </p:grpSpPr>
        <p:sp>
          <p:nvSpPr>
            <p:cNvPr id="85" name=""/>
            <p:cNvSpPr/>
            <p:nvPr/>
          </p:nvSpPr>
          <p:spPr>
            <a:xfrm rot="5400000">
              <a:off x="4895280" y="4616280"/>
              <a:ext cx="1944720" cy="129708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70142"/>
                  <a:lnTo>
                    <a:pt x="2" y="11020"/>
                  </a:lnTo>
                  <a:arcTo wR="10800" hR="10800" stAng="10729858" swAng="10870142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08720" y="4292640"/>
              <a:ext cx="358560" cy="488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124000" y="4365720"/>
            <a:ext cx="1297080" cy="1944720"/>
            <a:chOff x="2124000" y="4365720"/>
            <a:chExt cx="1297080" cy="1944720"/>
          </a:xfrm>
        </p:grpSpPr>
        <p:sp>
          <p:nvSpPr>
            <p:cNvPr id="88" name=""/>
            <p:cNvSpPr/>
            <p:nvPr/>
          </p:nvSpPr>
          <p:spPr>
            <a:xfrm rot="16200000">
              <a:off x="1800000" y="4689360"/>
              <a:ext cx="1944720" cy="129708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70142"/>
                  <a:lnTo>
                    <a:pt x="2" y="11020"/>
                  </a:lnTo>
                  <a:arcTo wR="10800" hR="10800" stAng="10729858" swAng="10870142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0800000">
              <a:off x="2773080" y="5821560"/>
              <a:ext cx="358560" cy="488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6156360" y="47973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55640" y="47973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132000" y="4076640"/>
            <a:ext cx="792360" cy="3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716360" y="4076640"/>
            <a:ext cx="792360" cy="3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278880" y="404352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707720" y="4038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211640" y="4896000"/>
            <a:ext cx="360360" cy="0"/>
          </a:xfrm>
          <a:prstGeom prst="line">
            <a:avLst/>
          </a:prstGeom>
          <a:ln w="63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2200" y="4713120"/>
            <a:ext cx="679680" cy="3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680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0560" y="4680000"/>
            <a:ext cx="792000" cy="431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816800" y="4753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1" name=""/>
          <p:cNvCxnSpPr>
            <a:stCxn id="92" idx="3"/>
            <a:endCxn id="97" idx="1"/>
          </p:cNvCxnSpPr>
          <p:nvPr/>
        </p:nvCxnSpPr>
        <p:spPr>
          <a:xfrm flipH="1">
            <a:off x="3562200" y="4257720"/>
            <a:ext cx="362520" cy="637200"/>
          </a:xfrm>
          <a:prstGeom prst="curvedConnector5">
            <a:avLst>
              <a:gd name="adj1" fmla="val -62723"/>
              <a:gd name="adj2" fmla="val 24759"/>
              <a:gd name="adj3" fmla="val -62723"/>
            </a:avLst>
          </a:prstGeom>
          <a:ln w="763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99" idx="1"/>
            <a:endCxn id="95" idx="1"/>
          </p:cNvCxnSpPr>
          <p:nvPr/>
        </p:nvCxnSpPr>
        <p:spPr>
          <a:xfrm flipV="1" rot="16200000">
            <a:off x="4607280" y="4319640"/>
            <a:ext cx="457920" cy="262800"/>
          </a:xfrm>
          <a:prstGeom prst="curvedConnector5">
            <a:avLst>
              <a:gd name="adj1" fmla="val 30133"/>
              <a:gd name="adj2" fmla="val 93552"/>
              <a:gd name="adj3" fmla="val 30133"/>
            </a:avLst>
          </a:prstGeom>
          <a:ln w="763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103" name=""/>
          <p:cNvCxnSpPr>
            <a:stCxn id="100" idx="2"/>
            <a:endCxn id="97" idx="1"/>
          </p:cNvCxnSpPr>
          <p:nvPr/>
        </p:nvCxnSpPr>
        <p:spPr>
          <a:xfrm flipV="1" rot="16200000">
            <a:off x="4159440" y="4295880"/>
            <a:ext cx="226080" cy="1421640"/>
          </a:xfrm>
          <a:prstGeom prst="curvedConnector5">
            <a:avLst>
              <a:gd name="adj1" fmla="val -100637"/>
              <a:gd name="adj2" fmla="val 58029"/>
              <a:gd name="adj3" fmla="val -100637"/>
            </a:avLst>
          </a:prstGeom>
          <a:ln w="76320">
            <a:solidFill>
              <a:srgbClr val="808080"/>
            </a:solidFill>
            <a:miter/>
            <a:tailEnd len="med" type="triangle" w="med"/>
          </a:ln>
        </p:spPr>
      </p:cxnSp>
      <p:sp>
        <p:nvSpPr>
          <p:cNvPr id="104" name=""/>
          <p:cNvSpPr/>
          <p:nvPr/>
        </p:nvSpPr>
        <p:spPr>
          <a:xfrm>
            <a:off x="5545080" y="907920"/>
            <a:ext cx="359892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atabas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Δ takes role of internal state i;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beliefs of the agent.</a:t>
            </a:r>
            <a:br>
              <a:rPr sz="2400"/>
            </a:b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: Δ={open(valve221), pressure(tank776, 28)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836640"/>
            <a:ext cx="9169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2.2 Agents as Theorem Prover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3059280" y="1052640"/>
                <a:ext cx="218268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ion</m:t>
                    </m:r>
                    <m:r>
                      <m:t xml:space="preserve">:</m:t>
                    </m:r>
                    <m:r>
                      <m:t xml:space="preserve">D</m:t>
                    </m:r>
                    <m:r>
                      <m:t xml:space="preserve">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324000" y="1700280"/>
            <a:ext cx="842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916280"/>
            <a:ext cx="8209080" cy="47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function action(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Courier New"/>
              </a:rPr>
              <a:t>Δ:D) returns α:A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for each α A do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if(         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return 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for each α A do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if(         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return 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return nu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Courier New"/>
              </a:rPr>
              <a:t>}</a:t>
            </a:r>
            <a:r>
              <a:rPr b="0" lang="en-US" sz="2400" spc="-1" strike="noStrike">
                <a:solidFill>
                  <a:srgbClr val="ff33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3348000" y="2276640"/>
                <a:ext cx="208080" cy="20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987640" y="2505240"/>
                <a:ext cx="1584360" cy="49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−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o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2987640" y="4340160"/>
                <a:ext cx="1655640" cy="47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t xml:space="preserve">|</m:t>
                    </m:r>
                    <m:sSub>
                      <m:e>
                        <m:r>
                          <m:t xml:space="preserve">−</m:t>
                        </m:r>
                      </m:e>
                      <m:sub>
                        <m:r>
                          <m:t xml:space="preserve">ρ</m:t>
                        </m:r>
                      </m:sub>
                    </m:sSub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Do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3348000" y="4089240"/>
                <a:ext cx="208080" cy="208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4" name=""/>
          <p:cNvSpPr/>
          <p:nvPr/>
        </p:nvSpPr>
        <p:spPr>
          <a:xfrm>
            <a:off x="5580000" y="5516640"/>
            <a:ext cx="3384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-Logic: Do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α) 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 is predicate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α is individuum symbo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2:37:50Z</dcterms:created>
  <dc:creator>Fridl Bunke</dc:creator>
  <dc:description/>
  <dc:language>en-US</dc:language>
  <cp:lastModifiedBy>georg</cp:lastModifiedBy>
  <dcterms:modified xsi:type="dcterms:W3CDTF">2006-09-19T13:13:16Z</dcterms:modified>
  <cp:revision>79</cp:revision>
  <dc:subject/>
  <dc:title>Folie 1</dc:title>
</cp:coreProperties>
</file>