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40AC-30E9-4B14-833B-9F7C8F0B7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FDB-C78E-46AE-8020-BE89D2000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115D-4449-4F53-992C-DCE4EB50D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8756-B11A-49D0-A27D-F815D8635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E51-C7E8-4B64-BC05-B18CC59B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5EE66-AAD0-4B94-BC4D-A36F90C1E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3AC95-2709-4219-A7A3-B7861781D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6BE7-1190-43C9-BD35-D12F6C2E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90C1-B3C2-4FBC-8C76-5740ADDD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2DBD-8B53-4194-BDE2-C49CB1F1D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B453B-EC62-459D-AD85-3A369371E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3DB6-2BAD-4665-9EAE-B41240C8F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5A024-1452-41FA-B3FB-3AD8F1C1814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http://www.csc.liv.ac.uk/~mjw/pubs/ima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404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ides and Lecture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. Georg Groh, TU-München, Germany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hg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4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se slides are based on the boo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Wiley, 200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8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08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were used in the Lecture “Verteiltes Problemlösen: Software Agenten und Semantic Web”, TU-München, Dept. of Informatics,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can be used for free in any academic teaching scen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2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1 Examples for Agent Scenario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119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ir-Traffic-Control Scenar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cal air-traffic-control system (ATCS) fails. Air-Traffic-control systems of nearby airports detect failure, communicate and coordinate to assign each flight to the control of one of the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24000" y="3933720"/>
            <a:ext cx="8820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aking the initi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on in situations with limited sensor range (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mmunication between agents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ordinatio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ypical for Ad-Hoc-Networks for car-to-car-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        communicatio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3141720"/>
            <a:ext cx="158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997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1 Examples for Agent Scenario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981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liday-Scenar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ersonal agent running on PDA is given the task of booking a holiday trip according to given preferences. Agent negotiates and books flight, hotel, car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924280"/>
            <a:ext cx="882000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sm t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pecify (fuzzy) requirements / tasks /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utonomous negot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providers wit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good balanc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several conflicting resources / entiti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.g.: negotiation time vs. optimality of 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mpare offers; matching offers with prefer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242100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734080"/>
            <a:ext cx="30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cent technolog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8360" y="2349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24000" y="623736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mantic-Web enabled Web-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95280" y="566100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2 Some Views on MA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105264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gents as a Paradigm of Software Engin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24000" y="1773360"/>
            <a:ext cx="88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lex SW-Systems: Interaction between encapsulate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entitie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imilarity to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s vs. Objects vs. Components (see later lecture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357336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gents as a Tool for Simulation of Socie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4000" y="429264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cial Emergence phenomena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mergence: Complex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system behavior, not directly explicable through 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constituent‘s features (e.g. bee-hive)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duction of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4000" y="335772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2 Some Views on MA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4000" y="1125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S vs. Distributed Systems (DS) / Concurrent Systems (C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24000" y="1916280"/>
            <a:ext cx="8820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tion of DS, Characteristics of DS, Algorithms in DS: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see [4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S desig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corporate results from 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aling with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hared resources, deadlock-avoidance, coordination ov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ime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S / CS: Cooperation and Coordin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emas hard-wir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esign-time; MAS: Cooperation and Coordin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negotiated a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un-tim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.g. more flexible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M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self-interested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„economic“ encounters.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D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onents usually all work towards a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mmon goal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on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2 Some Views on MA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98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S vs. Artificial Intelligence (AI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1628640"/>
            <a:ext cx="8820000" cy="50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S 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[subfield-of]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AI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I: Modern view ([3]): „AI: Research on building intelligent 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agents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lanning, learning (classification, clustering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ductive logic programming etc.), reasoning (exper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ystems, theorem provers, modal logics, temporal logic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tc.), perceiving (OCR etc.), moving and acting in th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real world (Robotics) etc.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til 1980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I has neglected social behavi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sever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telligent entities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all results from AI required to construct good agents.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S research does not always require super-sophisticat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gents. E.g. learning may be prohib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2 Some Views on MA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50920" y="98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S vs. Game-Theory / Econom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24000" y="1628640"/>
            <a:ext cx="882000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ame theory: Formal analysis of interactions between self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interested entitie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rallels to MAS obvio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me-theory describ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roperties of equilibria or optimal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solutions etc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Nash-eq.) but usuall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the algorithms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their complexity required to build agents that enforc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hese solutions or equilib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estrictive assump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game theory such a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rationality may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ot app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everal MAS scenario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39640" y="515772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522936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S vs. Social-Sci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580536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S: simple model for social group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Much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mplicated (more variable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826920" y="256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1   Intelligent Ag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1 Definition Ag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1197000"/>
            <a:ext cx="8064360" cy="54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single, common defini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concept „Agent“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xample for controversy: learning ability (adaptability)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May not be desired in e.g. flight control syste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olridge [1]: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„An agent is 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er syste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at i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tuated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some environment, and that is capable o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utonomous ac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 this environment in order to meet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  i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jectiv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metim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equired / demanded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b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n real o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virtual environments)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ac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gent will no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mmunicate wrong information)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nevol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nflicts, fulfillment of all goals will be tri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al orientation is sometime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ationality.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Controversial. Compare 1.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2 Simple Agent Schema &amp; Exa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132000" y="1125360"/>
            <a:ext cx="2376720" cy="93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782160" y="1341360"/>
            <a:ext cx="976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32000" y="2708280"/>
            <a:ext cx="237672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22520" y="292428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5219280" y="1413000"/>
            <a:ext cx="1297080" cy="1944720"/>
            <a:chOff x="5219280" y="1413000"/>
            <a:chExt cx="1297080" cy="1944720"/>
          </a:xfrm>
        </p:grpSpPr>
        <p:sp>
          <p:nvSpPr>
            <p:cNvPr id="140" name=""/>
            <p:cNvSpPr/>
            <p:nvPr/>
          </p:nvSpPr>
          <p:spPr>
            <a:xfrm rot="5400000">
              <a:off x="4895280" y="1736640"/>
              <a:ext cx="1944720" cy="12970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508720" y="1413000"/>
              <a:ext cx="35856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109960" y="1413000"/>
            <a:ext cx="1296720" cy="1944720"/>
            <a:chOff x="2109960" y="1413000"/>
            <a:chExt cx="1296720" cy="1944720"/>
          </a:xfrm>
        </p:grpSpPr>
        <p:sp>
          <p:nvSpPr>
            <p:cNvPr id="143" name=""/>
            <p:cNvSpPr/>
            <p:nvPr/>
          </p:nvSpPr>
          <p:spPr>
            <a:xfrm rot="16200000">
              <a:off x="1785960" y="1737000"/>
              <a:ext cx="1944720" cy="129672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rot="10800000">
              <a:off x="2759760" y="2868840"/>
              <a:ext cx="35820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156360" y="191628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84360" y="198900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39640" y="407664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Control Systems: Thermost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400536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476360" y="4581360"/>
            <a:ext cx="62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o cold   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heating 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mperature OK  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heating o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84360" y="5805360"/>
            <a:ext cx="784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11280" y="5950080"/>
            <a:ext cx="8137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have limited effectoric capabilities (set of actions). Actions have Precondi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gent Environmen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95280" y="1052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Accessible vs. Inaccessib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773360"/>
            <a:ext cx="8820000" cy="43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cessible Environments: Every ag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obtai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ny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desired information (completeness)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y desired degree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accurac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every desired degree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up-to-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ate-ness.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 such information is call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ccessib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real and virtual environ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acces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urrent Temperature on Mars is inaccessible (c is finite)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Not every piece of content on Britney Spears on the Web i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ccessible or even searchable from 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 termin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Quality of information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quality of action deci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vironment more accessible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gent easier to constru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2133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22100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Lecture 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500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gent Environmen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50920" y="1052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eterministic vs. non-determinis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1844640"/>
            <a:ext cx="8820000" cy="44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terministic environment: Every action has always exactly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the same effec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uncertainty about resulting state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hav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limited spheres of effectoric influ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wrt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o accuracy) a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limited sensoric capabili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wrt.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ccuracy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o complete control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on-determinism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rom an individual agent‘s point o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view) eve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„overall deterministic“ enviro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n-determinism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ctions can fail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gent Environmen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2400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eterministic vs. non-deterministic: An 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060640"/>
            <a:ext cx="3816360" cy="1728720"/>
          </a:xfrm>
          <a:custGeom>
            <a:avLst/>
            <a:gdLst/>
            <a:ahLst/>
            <a:rect l="l" t="t" r="r" b="b"/>
            <a:pathLst>
              <a:path w="4536" h="2563">
                <a:moveTo>
                  <a:pt x="0" y="318"/>
                </a:moveTo>
                <a:cubicBezTo>
                  <a:pt x="98" y="1040"/>
                  <a:pt x="197" y="1762"/>
                  <a:pt x="363" y="2132"/>
                </a:cubicBezTo>
                <a:cubicBezTo>
                  <a:pt x="529" y="2502"/>
                  <a:pt x="802" y="2532"/>
                  <a:pt x="998" y="2540"/>
                </a:cubicBezTo>
                <a:cubicBezTo>
                  <a:pt x="1194" y="2548"/>
                  <a:pt x="1406" y="2411"/>
                  <a:pt x="1542" y="2177"/>
                </a:cubicBezTo>
                <a:cubicBezTo>
                  <a:pt x="1678" y="1943"/>
                  <a:pt x="1701" y="1346"/>
                  <a:pt x="1814" y="1134"/>
                </a:cubicBezTo>
                <a:cubicBezTo>
                  <a:pt x="1927" y="922"/>
                  <a:pt x="2110" y="892"/>
                  <a:pt x="2223" y="907"/>
                </a:cubicBezTo>
                <a:cubicBezTo>
                  <a:pt x="2336" y="922"/>
                  <a:pt x="2404" y="998"/>
                  <a:pt x="2495" y="1225"/>
                </a:cubicBezTo>
                <a:cubicBezTo>
                  <a:pt x="2586" y="1452"/>
                  <a:pt x="2631" y="2049"/>
                  <a:pt x="2767" y="2268"/>
                </a:cubicBezTo>
                <a:cubicBezTo>
                  <a:pt x="2903" y="2487"/>
                  <a:pt x="3114" y="2563"/>
                  <a:pt x="3311" y="2540"/>
                </a:cubicBezTo>
                <a:cubicBezTo>
                  <a:pt x="3508" y="2517"/>
                  <a:pt x="3742" y="2555"/>
                  <a:pt x="3946" y="2132"/>
                </a:cubicBezTo>
                <a:cubicBezTo>
                  <a:pt x="4150" y="1709"/>
                  <a:pt x="4438" y="355"/>
                  <a:pt x="453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56000" y="1916280"/>
            <a:ext cx="431640" cy="5047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2771640" y="2276640"/>
            <a:ext cx="360360" cy="288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32000" y="22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32000" y="2276640"/>
            <a:ext cx="216000" cy="21564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342900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64000" y="3502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64000" y="3500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564000" y="3573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64000" y="357336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64000" y="36464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4000" y="364500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564000" y="37180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4000" y="371628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564000" y="378936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619280" y="3427560"/>
            <a:ext cx="287280" cy="7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19280" y="3500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9280" y="349884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619280" y="3571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19280" y="357192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1928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619280" y="364320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619280" y="371628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619280" y="3714840"/>
            <a:ext cx="287280" cy="7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619280" y="37879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2349360"/>
            <a:ext cx="352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um fluctuations make environment non-determinist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42920" y="4653000"/>
            <a:ext cx="6480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n if system is classical mechanics: small deviations in agent‘s position or slight inaccuracies in ball drop may result in different outcome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terministic cha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348000" y="37893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astic sp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403280" y="3789360"/>
            <a:ext cx="9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lastic sp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gent Environmen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24000" y="1197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ynamic vs. static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24000" y="2060640"/>
            <a:ext cx="8208720" cy="39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ic environment: Is guaranteed not to change except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due to the agent‘s action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ic environment: Predictable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formation gathering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O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conditions establish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la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xecu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ynamic env.: Unpredictab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precond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 for action α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holds at tim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guarantee for φ at time t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ed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for constant information gather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on plans can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fail because preconditions change over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gent Environmen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1197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Discrete vs. continuou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24000" y="2060640"/>
            <a:ext cx="8820000" cy="24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screte environment: is always in a state            where 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Semi-discrete environment                        (S countable)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inuous environments can be discretized up to any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desired degree of accurac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0" name=""/>
              <p:cNvSpPr txBox="1"/>
              <p:nvPr/>
            </p:nvSpPr>
            <p:spPr>
              <a:xfrm>
                <a:off x="6443640" y="2114640"/>
                <a:ext cx="754200" cy="37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∈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1" name=""/>
              <p:cNvSpPr txBox="1"/>
              <p:nvPr/>
            </p:nvSpPr>
            <p:spPr>
              <a:xfrm>
                <a:off x="900000" y="2492280"/>
                <a:ext cx="971640" cy="55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2" name=""/>
          <p:cNvSpPr/>
          <p:nvPr/>
        </p:nvSpPr>
        <p:spPr>
          <a:xfrm>
            <a:off x="468360" y="4797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084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st complex environments: inaccessible, non-deterministic, dynamic and continuou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„ope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4572000" y="2997360"/>
                <a:ext cx="160488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S</m:t>
                        </m:r>
                      </m:e>
                    </m:d>
                    <m:r>
                      <m:t xml:space="preserve">=</m:t>
                    </m:r>
                    <m:d>
                      <m:dPr>
                        <m:begChr m:val="|"/>
                        <m:endChr m:val="|"/>
                      </m:dPr>
                      <m:e>
                        <m:r>
                          <m:t xml:space="preserve">N</m:t>
                        </m:r>
                      </m:e>
                    </m:d>
                    <m:r>
                      <m:t xml:space="preserve">=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5148360" y="2997360"/>
            <a:ext cx="2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spects of Agent-Environment-Interac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1197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Purely) Functional Ag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24000" y="2060640"/>
            <a:ext cx="8820000" cy="35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e a total, computable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μ-recursive) Function from th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Set of perceptions to the set of actions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and terminates.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: Compi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(Hoare Calculus)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re-cond. φ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f program for f is satisfie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and program is totally correc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st-condition 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s als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satisfied when program terminates (guarante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quired: Deterministic static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0" name=""/>
              <p:cNvSpPr txBox="1"/>
              <p:nvPr/>
            </p:nvSpPr>
            <p:spPr>
              <a:xfrm>
                <a:off x="6732720" y="2637000"/>
                <a:ext cx="1469880" cy="46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O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spects of Agent-Environment-Interac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0920" y="981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(Purely) Reactive Ag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24000" y="1700280"/>
            <a:ext cx="8820000" cy="48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going interaction with environment. No termin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s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be described in terms of continuou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: Thermostat, Web-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cal decis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 lead to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global consequenc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ue to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limited sphere of influence and perception, non-deterministic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environments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complete model of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ocally reasonable decisions may lea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unfairness.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Printer scheduling agent that schedules job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ccording to first letter of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3  Aspects of Agent-Environment-Interaction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24000" y="105264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pisodic Agent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24000" y="1700280"/>
            <a:ext cx="882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ision of action is not only dependent on last environm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tate (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eactive) but on limited number of past even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episo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5280" y="306864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79280" y="3284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Real time 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4000" y="4005360"/>
            <a:ext cx="8820000" cy="27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ision must be made within certain time fra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ision must be made as soon as possib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tion must be repeated as often as possible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many agent decision (optimization) problems are NP hard, no practical agent is completely time-independen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4  Difficulty in Designing Intelligent Agen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24000" y="2708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eaking of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„Intelligent Agents“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, we demand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5280" y="3573360"/>
            <a:ext cx="828216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ctiv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react to environment changes wrt.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activen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ility to take the initiative wrt. to ag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ives /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cial Abil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act (communicate, coordinat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e) with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1197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we have seen so far: Characteristics of „Agents“. Definition „thermostat is agent“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es not follow intuition on „intelligent agent“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4  Difficulty in Designing Intelligent Agen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ctivity             vs.      Goal-Directed Behavi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2637000"/>
            <a:ext cx="4032360" cy="34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gent continuously monitors environment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etects changes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reacts (if necc.). no termin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Works in non-deterministic and dynamic environ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ay fail to exhibit goal-directed („rational“) behavi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356000" y="1628640"/>
            <a:ext cx="49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case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rely func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-252360" y="1628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case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rely re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427640" y="1413000"/>
            <a:ext cx="0" cy="5445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0" y="2565360"/>
            <a:ext cx="4572000" cy="419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Perception: Precond.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φ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Action: Compute f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Goal: Postcond. ψ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Term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Requires: Determin. &amp; Static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If during execution φ becomes 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e.g. due to dynamic env.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or goal ψ becomes invali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(Goal is not met)  (e.g. change of objectives, non-determinism)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agent crashes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functional behavior is not reactive / 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2276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4  Difficulty in Designing Intelligent Agen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81000"/>
            <a:ext cx="9144000" cy="45972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                  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activity             vs.      Goal-Directed Behavio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356000" y="1557360"/>
            <a:ext cx="496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case: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rely functio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-252360" y="162864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case: </a:t>
            </a: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purely rea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rot="1240200">
            <a:off x="2627280" y="2565360"/>
            <a:ext cx="1150920" cy="432000"/>
          </a:xfrm>
          <a:prstGeom prst="rightArrow">
            <a:avLst>
              <a:gd name="adj1" fmla="val 50000"/>
              <a:gd name="adj2" fmla="val 6660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rot="9091800">
            <a:off x="5148000" y="2565360"/>
            <a:ext cx="1150920" cy="432000"/>
          </a:xfrm>
          <a:prstGeom prst="rightArrow">
            <a:avLst>
              <a:gd name="adj1" fmla="val 50000"/>
              <a:gd name="adj2" fmla="val 6660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619280" y="3213000"/>
            <a:ext cx="59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: relatively easy to implement. Well known methodolo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79280" y="4581360"/>
            <a:ext cx="89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Difficult: Having BOTH. Finding a good balance between straight goal-orientation and reactive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39640" y="126828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note on copyrights and main sources for the first part of the lecture on Multi-Agent-Systems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lecture follows the book [1]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fore most of the material is taken from [1]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slide elements where occasionally taken over from slide-sets [5] and [6]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 practical reasons (readability), citations of [1], [5] and [6] are therefore omitted throughout the sli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5  Agents vs. Objec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105264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: Agent == Object ?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S == System of distributed Objects (SDO) + RMI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4000" y="2133720"/>
            <a:ext cx="849780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ertain type of access control (objects: private / public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ncapsul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cess-interfac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nal state (Obj: slots) + behavior (Obj: methods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uman perception and terminology of Objects as „actors“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2060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1280" y="2205000"/>
            <a:ext cx="51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– Object  Common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96360" y="5445000"/>
            <a:ext cx="46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MAS -  SDO Common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4000" y="6021360"/>
            <a:ext cx="86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ch entity has own thread of contr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5  Agents vs. Objec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95280" y="907920"/>
            <a:ext cx="835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Question: Agent == Object ?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S == distributed Objects + RMI ?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71280" y="2637000"/>
            <a:ext cx="8498160" cy="36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„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Objects do it for free, agents do it for the money“ [5]: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Flexibility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reads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1844640"/>
            <a:ext cx="835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1280" y="1989000"/>
            <a:ext cx="426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– Object  Dif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753080" y="301788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s: access control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ard-coded at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design-time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methods MUST be executed if ordered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04720" y="2997360"/>
            <a:ext cx="4095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gents: Decide about executing an acti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he basis of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self-interest at run-time. Agents have stronger autonom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37080" y="3139920"/>
            <a:ext cx="0" cy="1009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4720" y="4653000"/>
            <a:ext cx="424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gents: intelligent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(reactive, proactive, social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53080" y="4653000"/>
            <a:ext cx="43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Object-oriented frameworks: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built-in features like th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537080" y="4724280"/>
            <a:ext cx="0" cy="719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753080" y="5661000"/>
            <a:ext cx="4392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f Obj. are not distributed </a:t>
            </a:r>
            <a:r>
              <a:rPr b="0" lang="en-US" sz="20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Obj. share same runtime-environment / usually share same thre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6360" y="573264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gents: each has own runtime-env. / own thread of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37080" y="5732640"/>
            <a:ext cx="0" cy="863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6  Agents vs. Expert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24000" y="2852640"/>
            <a:ext cx="849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earning Agent, ES: Can deduce new knowledge on th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basis of existing knowledg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70880" y="2276640"/>
            <a:ext cx="6361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– Expert System  Common Asp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71240" y="3789360"/>
            <a:ext cx="534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Agent – Expert System Dif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365720"/>
            <a:ext cx="8640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ert Systems: Rather Information Systems; Disembodied, decoupled from environment (no acting on env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ert Systems: Usually request-based not proa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ert Systems: Not soc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68360" y="1052640"/>
            <a:ext cx="86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t Systems: Popular in AI in the 1970s and 1980s; Large declarative knowledge-bases with inference component (mostly deductive reasoning).  Example: MYCIN (ES for infectious diseas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7 The Intentional 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68360" y="105264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al 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ttributing attitudes (beliefs, desires, whishes) to systems whose precise internal function is unknown. (Controversial example: Light switc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468360" y="2421000"/>
            <a:ext cx="7921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hysical 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bserv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alyze function principles (induce general description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dict future behavior (through deduction). (Example: Apple and Newton‘s second la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68360" y="4076640"/>
            <a:ext cx="79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ign Sta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Use knowledge about design intention of an object to predict behavior (Example: Alarm Clock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5157720"/>
            <a:ext cx="7561440" cy="11912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ost real world system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o complex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for physical or design stance. </a:t>
            </a:r>
            <a:r>
              <a:rPr b="0" lang="en-US" sz="2400" spc="-1" strike="noStrike">
                <a:solidFill>
                  <a:srgbClr val="333399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 Why not us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ntional stance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as means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lexity reductio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(Compare Obj.Orient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8   Abstract Architectures for Intelligent Agen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68360" y="1052640"/>
            <a:ext cx="8675640" cy="574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environment states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Agent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un of agent in environmen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Set of all possible runs;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et of all possible runs ending with an action;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32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Set of all possible runs ending with an env.-sta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265480" y="1646280"/>
                <a:ext cx="214308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t xml:space="preserve">e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5" name=""/>
              <p:cNvSpPr txBox="1"/>
              <p:nvPr/>
            </p:nvSpPr>
            <p:spPr>
              <a:xfrm>
                <a:off x="2265480" y="2941560"/>
                <a:ext cx="2319120" cy="59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α</m:t>
                        </m:r>
                        <m:r>
                          <m:t xml:space="preserve">,</m:t>
                        </m:r>
                        <m:r>
                          <m:t xml:space="preserve">α</m:t>
                        </m:r>
                        <m:r>
                          <m:rPr>
                            <m:lit/>
                            <m:nor/>
                          </m:rPr>
                          <m:t xml:space="preserve">'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6" name=""/>
              <p:cNvSpPr txBox="1"/>
              <p:nvPr/>
            </p:nvSpPr>
            <p:spPr>
              <a:xfrm>
                <a:off x="1258920" y="4292640"/>
                <a:ext cx="6918120" cy="64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b>
                        </m:sSub>
                      </m:e>
                    </m:acc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8   Abstract Architectures for Intelligent Agen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68360" y="105264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Possible) effects of certain action in certain run on (non-deterministic) environment: state transformer function: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987640" y="4076640"/>
                <a:ext cx="158112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2806560" y="1863720"/>
                <a:ext cx="20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τ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sSup>
                          <m:e/>
                          <m:sup>
                            <m:r>
                              <m:t xml:space="preserve">A</m:t>
                            </m:r>
                          </m:sup>
                        </m:sSup>
                      </m:sub>
                    </m:sSub>
                    <m:r>
                      <m:t xml:space="preserve">→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E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611280" y="2565360"/>
            <a:ext cx="86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environment is no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istory depend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t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environment is deterministic, tak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stead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68360" y="350028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 system has ended its run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"/>
              <p:cNvSpPr txBox="1"/>
              <p:nvPr/>
            </p:nvSpPr>
            <p:spPr>
              <a:xfrm>
                <a:off x="2443320" y="5303880"/>
                <a:ext cx="2671560" cy="70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τ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5" name=""/>
          <p:cNvSpPr/>
          <p:nvPr/>
        </p:nvSpPr>
        <p:spPr>
          <a:xfrm>
            <a:off x="468360" y="4797360"/>
            <a:ext cx="86756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n Environment with initial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a tri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8   Abstract Architectures for Intelligent Agen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68360" y="105264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 perceives run, decides on action. Thus an agent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is / has a decision functio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3348000" y="1916280"/>
                <a:ext cx="228276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1130400" y="5661000"/>
                <a:ext cx="801360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u</m:t>
                    </m:r>
                    <m:r>
                      <m:t xml:space="preserve">&gt;</m:t>
                    </m:r>
                    <m:r>
                      <m:t xml:space="preserve">0</m:t>
                    </m:r>
                    <m:r>
                      <m:t xml:space="preserve">: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∈</m:t>
                    </m:r>
                    <m:r>
                      <m:t xml:space="preserve">τ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u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∧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(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u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1" name=""/>
          <p:cNvSpPr/>
          <p:nvPr/>
        </p:nvSpPr>
        <p:spPr>
          <a:xfrm>
            <a:off x="468360" y="28526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quenc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2" name=""/>
              <p:cNvSpPr txBox="1"/>
              <p:nvPr/>
            </p:nvSpPr>
            <p:spPr>
              <a:xfrm>
                <a:off x="3449520" y="3213000"/>
                <a:ext cx="2914920" cy="63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3" name=""/>
          <p:cNvSpPr/>
          <p:nvPr/>
        </p:nvSpPr>
        <p:spPr>
          <a:xfrm>
            <a:off x="826920" y="4005360"/>
            <a:ext cx="6912000" cy="22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run of 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v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s initial state o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α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 = Ag(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8   Abstract Architectures for Intelligent Agen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68360" y="105264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urely reactive Agent: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"/>
              <p:cNvSpPr txBox="1"/>
              <p:nvPr/>
            </p:nvSpPr>
            <p:spPr>
              <a:xfrm>
                <a:off x="3164040" y="1646280"/>
                <a:ext cx="2071440" cy="56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08" name=""/>
          <p:cNvSpPr/>
          <p:nvPr/>
        </p:nvSpPr>
        <p:spPr>
          <a:xfrm>
            <a:off x="468360" y="2492280"/>
            <a:ext cx="8675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w: Refinement of model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Basis for Implementation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Agent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rst: Spli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unction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nd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ction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e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e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be a set of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agent percepts. The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9" name=""/>
              <p:cNvSpPr txBox="1"/>
              <p:nvPr/>
            </p:nvSpPr>
            <p:spPr>
              <a:xfrm>
                <a:off x="2843280" y="4292640"/>
                <a:ext cx="312408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ction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0" name=""/>
              <p:cNvSpPr txBox="1"/>
              <p:nvPr/>
            </p:nvSpPr>
            <p:spPr>
              <a:xfrm>
                <a:off x="2916360" y="4941720"/>
                <a:ext cx="24588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e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11" name=""/>
              <p:cNvSpPr txBox="1"/>
              <p:nvPr/>
            </p:nvSpPr>
            <p:spPr>
              <a:xfrm>
                <a:off x="2892600" y="5551560"/>
                <a:ext cx="312552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∗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8   Abstract Architectures for Intelligent Agen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132000" y="981000"/>
            <a:ext cx="2376720" cy="9352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3847680" y="1460520"/>
            <a:ext cx="84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132000" y="2563920"/>
            <a:ext cx="237672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422520" y="27795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5219280" y="1268280"/>
            <a:ext cx="1297080" cy="1944720"/>
            <a:chOff x="5219280" y="1268280"/>
            <a:chExt cx="1297080" cy="1944720"/>
          </a:xfrm>
        </p:grpSpPr>
        <p:sp>
          <p:nvSpPr>
            <p:cNvPr id="319" name=""/>
            <p:cNvSpPr/>
            <p:nvPr/>
          </p:nvSpPr>
          <p:spPr>
            <a:xfrm rot="5400000">
              <a:off x="4895280" y="1591920"/>
              <a:ext cx="1944720" cy="12970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508720" y="1268280"/>
              <a:ext cx="35856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2109960" y="1268280"/>
            <a:ext cx="1296720" cy="1944720"/>
            <a:chOff x="2109960" y="1268280"/>
            <a:chExt cx="1296720" cy="1944720"/>
          </a:xfrm>
        </p:grpSpPr>
        <p:sp>
          <p:nvSpPr>
            <p:cNvPr id="322" name=""/>
            <p:cNvSpPr/>
            <p:nvPr/>
          </p:nvSpPr>
          <p:spPr>
            <a:xfrm rot="16200000">
              <a:off x="1785960" y="1592280"/>
              <a:ext cx="1944720" cy="129672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6720"/>
                <a:gd name="textAreaBottom" fmla="*/ 1297080 h 1296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rot="10800000">
              <a:off x="2759760" y="2724120"/>
              <a:ext cx="35820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4" name=""/>
          <p:cNvSpPr/>
          <p:nvPr/>
        </p:nvSpPr>
        <p:spPr>
          <a:xfrm>
            <a:off x="6156360" y="17715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684360" y="184464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2000" y="1197000"/>
            <a:ext cx="79236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716360" y="1197000"/>
            <a:ext cx="79236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278880" y="116352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07720" y="115884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924360" y="1341360"/>
            <a:ext cx="79200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79280" y="3716280"/>
            <a:ext cx="8675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e(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= see(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o matter wheth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, then the two environment states are said to be indistinguish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2" name=""/>
              <p:cNvSpPr txBox="1"/>
              <p:nvPr/>
            </p:nvSpPr>
            <p:spPr>
              <a:xfrm>
                <a:off x="3276720" y="4508640"/>
                <a:ext cx="1158840" cy="596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3" name=""/>
          <p:cNvSpPr/>
          <p:nvPr/>
        </p:nvSpPr>
        <p:spPr>
          <a:xfrm>
            <a:off x="179280" y="515772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~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equivalence-relation over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 .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 smaller the number of equivalence classes (set of e.-cl. be den.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Äq(~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he coarser is agent‘s percep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Äq(~)|=|E|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 is call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mniscien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|Äq(~)|=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 is simply „blind and deaf“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8   Abstract Architectures for Intelligent Agent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0" y="76500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3132000" y="3573360"/>
            <a:ext cx="2376720" cy="18734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851280" y="3573360"/>
            <a:ext cx="84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3132000" y="5635800"/>
            <a:ext cx="2376720" cy="9349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351240" y="5805360"/>
            <a:ext cx="18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5219280" y="4292640"/>
            <a:ext cx="1297080" cy="1944720"/>
            <a:chOff x="5219280" y="4292640"/>
            <a:chExt cx="1297080" cy="1944720"/>
          </a:xfrm>
        </p:grpSpPr>
        <p:sp>
          <p:nvSpPr>
            <p:cNvPr id="341" name=""/>
            <p:cNvSpPr/>
            <p:nvPr/>
          </p:nvSpPr>
          <p:spPr>
            <a:xfrm rot="5400000">
              <a:off x="4895280" y="4616280"/>
              <a:ext cx="1944720" cy="12970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508720" y="4292640"/>
              <a:ext cx="35856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2124000" y="4365720"/>
            <a:ext cx="1297080" cy="1944720"/>
            <a:chOff x="2124000" y="4365720"/>
            <a:chExt cx="1297080" cy="1944720"/>
          </a:xfrm>
        </p:grpSpPr>
        <p:sp>
          <p:nvSpPr>
            <p:cNvPr id="344" name=""/>
            <p:cNvSpPr/>
            <p:nvPr/>
          </p:nvSpPr>
          <p:spPr>
            <a:xfrm rot="16200000">
              <a:off x="1800000" y="4689360"/>
              <a:ext cx="1944720" cy="1297080"/>
            </a:xfrm>
            <a:custGeom>
              <a:avLst/>
              <a:gdLst>
                <a:gd name="textAreaLeft" fmla="*/ 0 w 1944720"/>
                <a:gd name="textAreaRight" fmla="*/ 1945080 w 1944720"/>
                <a:gd name="textAreaTop" fmla="*/ 0 h 1297080"/>
                <a:gd name="textAreaBottom" fmla="*/ 1297440 h 1297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5300" y="10800"/>
                  </a:moveTo>
                  <a:arcTo wR="-5500" hR="-5500" stAng="-10800000" swAng="-10870142"/>
                  <a:lnTo>
                    <a:pt x="2" y="11020"/>
                  </a:lnTo>
                  <a:arcTo wR="10800" hR="10800" stAng="10729858" swAng="10870142"/>
                  <a:lnTo>
                    <a:pt x="24300" y="10800"/>
                  </a:lnTo>
                  <a:lnTo>
                    <a:pt x="18950" y="16150"/>
                  </a:lnTo>
                  <a:lnTo>
                    <a:pt x="13600" y="10800"/>
                  </a:lnTo>
                  <a:close/>
                </a:path>
              </a:pathLst>
            </a:cu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rot="10800000">
              <a:off x="2773080" y="5821560"/>
              <a:ext cx="358560" cy="4888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6156360" y="4797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on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5640" y="4797360"/>
            <a:ext cx="172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nsor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132000" y="4076640"/>
            <a:ext cx="79236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716360" y="4076640"/>
            <a:ext cx="79236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3278880" y="404352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707720" y="40384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211640" y="4896000"/>
            <a:ext cx="360360" cy="0"/>
          </a:xfrm>
          <a:prstGeom prst="line">
            <a:avLst/>
          </a:prstGeom>
          <a:ln w="63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3" name=""/>
              <p:cNvSpPr txBox="1"/>
              <p:nvPr/>
            </p:nvSpPr>
            <p:spPr>
              <a:xfrm>
                <a:off x="826920" y="2060640"/>
                <a:ext cx="400212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=</m:t>
                    </m:r>
                    <m:d>
                      <m:dPr>
                        <m:begChr m:val="⟨"/>
                        <m:endChr m:val="⟩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se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ction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nex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4" name=""/>
              <p:cNvSpPr txBox="1"/>
              <p:nvPr/>
            </p:nvSpPr>
            <p:spPr>
              <a:xfrm>
                <a:off x="5364000" y="1771560"/>
                <a:ext cx="245916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ee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55" name=""/>
              <p:cNvSpPr txBox="1"/>
              <p:nvPr/>
            </p:nvSpPr>
            <p:spPr>
              <a:xfrm>
                <a:off x="5364000" y="2276640"/>
                <a:ext cx="3090960" cy="49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next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Per</m:t>
                    </m:r>
                    <m:r>
                      <m:t xml:space="preserve">→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6" name=""/>
          <p:cNvSpPr/>
          <p:nvPr/>
        </p:nvSpPr>
        <p:spPr>
          <a:xfrm>
            <a:off x="250920" y="90792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we allow agent to accumulate history (the run up to now)  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into internal agent state          we h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"/>
              <p:cNvSpPr txBox="1"/>
              <p:nvPr/>
            </p:nvSpPr>
            <p:spPr>
              <a:xfrm>
                <a:off x="3962520" y="1306440"/>
                <a:ext cx="668160" cy="3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∈</m:t>
                    </m:r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58" name=""/>
          <p:cNvSpPr/>
          <p:nvPr/>
        </p:nvSpPr>
        <p:spPr>
          <a:xfrm>
            <a:off x="3562200" y="4713120"/>
            <a:ext cx="679680" cy="36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564000" y="468000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570560" y="4680000"/>
            <a:ext cx="792000" cy="431640"/>
          </a:xfrm>
          <a:prstGeom prst="can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45080" y="472608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2" name=""/>
          <p:cNvCxnSpPr>
            <a:stCxn id="348" idx="3"/>
            <a:endCxn id="358" idx="1"/>
          </p:cNvCxnSpPr>
          <p:nvPr/>
        </p:nvCxnSpPr>
        <p:spPr>
          <a:xfrm flipH="1">
            <a:off x="3562200" y="4257720"/>
            <a:ext cx="362520" cy="637200"/>
          </a:xfrm>
          <a:prstGeom prst="curvedConnector5">
            <a:avLst>
              <a:gd name="adj1" fmla="val -62723"/>
              <a:gd name="adj2" fmla="val 24759"/>
              <a:gd name="adj3" fmla="val -62723"/>
            </a:avLst>
          </a:prstGeom>
          <a:ln w="763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63" name=""/>
          <p:cNvCxnSpPr>
            <a:stCxn id="360" idx="1"/>
            <a:endCxn id="351" idx="1"/>
          </p:cNvCxnSpPr>
          <p:nvPr/>
        </p:nvCxnSpPr>
        <p:spPr>
          <a:xfrm flipV="1" rot="16200000">
            <a:off x="4607280" y="4319640"/>
            <a:ext cx="457920" cy="262800"/>
          </a:xfrm>
          <a:prstGeom prst="curvedConnector5">
            <a:avLst>
              <a:gd name="adj1" fmla="val 30133"/>
              <a:gd name="adj2" fmla="val 93552"/>
              <a:gd name="adj3" fmla="val 30133"/>
            </a:avLst>
          </a:prstGeom>
          <a:ln w="76320">
            <a:solidFill>
              <a:srgbClr val="808080"/>
            </a:solidFill>
            <a:miter/>
            <a:tailEnd len="med" type="triangle" w="med"/>
          </a:ln>
        </p:spPr>
      </p:cxnSp>
      <p:cxnSp>
        <p:nvCxnSpPr>
          <p:cNvPr id="364" name=""/>
          <p:cNvCxnSpPr>
            <a:stCxn id="361" idx="2"/>
            <a:endCxn id="358" idx="1"/>
          </p:cNvCxnSpPr>
          <p:nvPr/>
        </p:nvCxnSpPr>
        <p:spPr>
          <a:xfrm flipV="1" rot="16200000">
            <a:off x="4172760" y="4282200"/>
            <a:ext cx="199080" cy="1421640"/>
          </a:xfrm>
          <a:prstGeom prst="curvedConnector5">
            <a:avLst>
              <a:gd name="adj1" fmla="val -114311"/>
              <a:gd name="adj2" fmla="val 58029"/>
              <a:gd name="adj3" fmla="val -114311"/>
            </a:avLst>
          </a:prstGeom>
          <a:ln w="76320">
            <a:solidFill>
              <a:srgbClr val="808080"/>
            </a:solidFill>
            <a:miter/>
            <a:tailEnd len="med" type="triangle" w="med"/>
          </a:ln>
        </p:spPr>
      </p:cxnSp>
      <mc:AlternateContent>
        <mc:Choice xmlns:a14="http://schemas.microsoft.com/office/drawing/2010/main" Requires="a14">
          <p:sp>
            <p:nvSpPr>
              <p:cNvPr id="365" name=""/>
              <p:cNvSpPr txBox="1"/>
              <p:nvPr/>
            </p:nvSpPr>
            <p:spPr>
              <a:xfrm>
                <a:off x="5364000" y="2779560"/>
                <a:ext cx="2529000" cy="49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ction</m:t>
                    </m:r>
                    <m:r>
                      <m:t xml:space="preserve">:</m:t>
                    </m:r>
                    <m:r>
                      <m:t xml:space="preserve">I</m:t>
                    </m:r>
                    <m:r>
                      <m:t xml:space="preserve">→</m:t>
                    </m:r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– Suggested Boo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484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ecture will follow the bo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4000" y="227664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 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24000" y="414972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commended ADDITIONAL re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24000" y="494172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. Russell, P. Norvig, „Artificial Intelligence: A Modern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0920" y="3860640"/>
            <a:ext cx="838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324000" y="1989000"/>
            <a:ext cx="867564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sibility one: Procedural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rd-code algorithm that solves  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problem directl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al ag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known dis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sibility two: Tell agent what to do without precisely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specifying how to do i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„how“ is implemented in general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agent problem solving strategy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roach has similaritie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to declarative programming (e.g. PROLOG) (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declarative approac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Utility f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324000" y="10526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are agents told wha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0" name=""/>
              <p:cNvSpPr txBox="1"/>
              <p:nvPr/>
            </p:nvSpPr>
            <p:spPr>
              <a:xfrm>
                <a:off x="3276720" y="5300640"/>
                <a:ext cx="1985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1844640"/>
            <a:ext cx="867564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verall Util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essimisti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 value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ors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timisti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 value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s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listic: Average utilit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lue of all states of ru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 Functio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ver ru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24000" y="1052640"/>
            <a:ext cx="86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How are agents told what to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203640" y="4869000"/>
                <a:ext cx="198576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I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5661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fficulty: Not all objectives are easy to express by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9" name=""/>
              <p:cNvSpPr txBox="1"/>
              <p:nvPr/>
            </p:nvSpPr>
            <p:spPr>
              <a:xfrm>
                <a:off x="1619280" y="3429000"/>
                <a:ext cx="51134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ill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holes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appeare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n</m:t>
                        </m:r>
                        <m:r>
                          <m:t xml:space="preserve"> </m:t>
                        </m:r>
                        <m:r>
                          <m:t xml:space="preserve">r</m:t>
                        </m:r>
                        <m:r>
                          <m:t xml:space="preserve"> 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80" name=""/>
          <p:cNvSpPr/>
          <p:nvPr/>
        </p:nvSpPr>
        <p:spPr>
          <a:xfrm>
            <a:off x="250920" y="765000"/>
            <a:ext cx="359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: Tile-Wor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79280" y="1268280"/>
            <a:ext cx="8675640" cy="21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tangular Grid, Tiles, Obstacles, Holes, Ag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bjective: Fill holes by pushing tiles towards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les appear and disappear randomly (gradually (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cor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for filling changes) or suddenly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sibility for utility fun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900000" y="4508640"/>
            <a:ext cx="1584360" cy="2016000"/>
            <a:chOff x="900000" y="4508640"/>
            <a:chExt cx="1584360" cy="2016000"/>
          </a:xfrm>
        </p:grpSpPr>
        <p:sp>
          <p:nvSpPr>
            <p:cNvPr id="383" name=""/>
            <p:cNvSpPr/>
            <p:nvPr/>
          </p:nvSpPr>
          <p:spPr>
            <a:xfrm>
              <a:off x="111600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140472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169200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98108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26836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0000" y="4867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900000" y="51562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0000" y="54435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0000" y="573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900000" y="6019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0000" y="6308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403280" y="5734080"/>
            <a:ext cx="289080" cy="287280"/>
          </a:xfrm>
          <a:prstGeom prst="smileyFace">
            <a:avLst>
              <a:gd name="adj" fmla="val 928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378080" y="5398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31880" y="5686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357200" y="4822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933560" y="48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3564000" y="4508640"/>
            <a:ext cx="1584360" cy="2016000"/>
            <a:chOff x="3564000" y="4508640"/>
            <a:chExt cx="1584360" cy="2016000"/>
          </a:xfrm>
        </p:grpSpPr>
        <p:sp>
          <p:nvSpPr>
            <p:cNvPr id="400" name=""/>
            <p:cNvSpPr/>
            <p:nvPr/>
          </p:nvSpPr>
          <p:spPr>
            <a:xfrm>
              <a:off x="378000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06872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35600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464508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932360" y="450864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564000" y="4867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564000" y="51562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64000" y="54435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564000" y="5732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564000" y="6019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564000" y="63086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1" name=""/>
          <p:cNvSpPr/>
          <p:nvPr/>
        </p:nvSpPr>
        <p:spPr>
          <a:xfrm>
            <a:off x="4067280" y="5734080"/>
            <a:ext cx="288720" cy="287280"/>
          </a:xfrm>
          <a:prstGeom prst="smileyFace">
            <a:avLst>
              <a:gd name="adj" fmla="val 928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4041720" y="5398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4295880" y="5686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597560" y="4824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6275520" y="4552920"/>
            <a:ext cx="1584360" cy="2016000"/>
            <a:chOff x="6275520" y="4552920"/>
            <a:chExt cx="1584360" cy="2016000"/>
          </a:xfrm>
        </p:grpSpPr>
        <p:sp>
          <p:nvSpPr>
            <p:cNvPr id="416" name=""/>
            <p:cNvSpPr/>
            <p:nvPr/>
          </p:nvSpPr>
          <p:spPr>
            <a:xfrm>
              <a:off x="6491520" y="45529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780240" y="45529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67520" y="45529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356600" y="45529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7643880" y="4552920"/>
              <a:ext cx="0" cy="201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275520" y="491148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275520" y="520056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6275520" y="548784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275520" y="5776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6275520" y="6064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275520" y="635292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7" name=""/>
          <p:cNvSpPr/>
          <p:nvPr/>
        </p:nvSpPr>
        <p:spPr>
          <a:xfrm>
            <a:off x="6778800" y="5778360"/>
            <a:ext cx="288720" cy="287640"/>
          </a:xfrm>
          <a:prstGeom prst="smileyFace">
            <a:avLst>
              <a:gd name="adj" fmla="val 9282"/>
            </a:avLst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753240" y="54435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007400" y="57308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6732720" y="4867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30872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7321680" y="5734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468360" y="1052640"/>
            <a:ext cx="8675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bability that ru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ccu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from Se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(Ag,Env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possible runs of ag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e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placed in environ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nv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539640" y="39337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n optimal ag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pt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an environm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v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ximizes expected ut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1"/>
          <a:stretch/>
        </p:blipFill>
        <p:spPr>
          <a:xfrm>
            <a:off x="1908000" y="2205000"/>
            <a:ext cx="4843800" cy="9716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395280" y="4941720"/>
            <a:ext cx="10080720" cy="110988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611280" y="3933720"/>
            <a:ext cx="21564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24000" y="981000"/>
            <a:ext cx="822960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Bounded Optimal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4000" y="1700280"/>
            <a:ext cx="822960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agents cannot be implemented with availab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puting resourc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func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ay need more than available memory to implement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denote the agents that can be implemented on machin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ounded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timal 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755640" y="4005360"/>
            <a:ext cx="8388360" cy="565200"/>
          </a:xfrm>
          <a:prstGeom prst="rect">
            <a:avLst/>
          </a:prstGeom>
          <a:ln w="0">
            <a:noFill/>
          </a:ln>
        </p:spPr>
      </p:pic>
      <p:pic>
        <p:nvPicPr>
          <p:cNvPr id="445" name="" descr=""/>
          <p:cNvPicPr/>
          <p:nvPr/>
        </p:nvPicPr>
        <p:blipFill>
          <a:blip r:embed="rId2"/>
          <a:stretch/>
        </p:blipFill>
        <p:spPr>
          <a:xfrm>
            <a:off x="684360" y="5373720"/>
            <a:ext cx="9864720" cy="1031760"/>
          </a:xfrm>
          <a:prstGeom prst="rect">
            <a:avLst/>
          </a:prstGeom>
          <a:ln w="0">
            <a:noFill/>
          </a:ln>
        </p:spPr>
      </p:pic>
      <p:sp>
        <p:nvSpPr>
          <p:cNvPr id="446" name=""/>
          <p:cNvSpPr/>
          <p:nvPr/>
        </p:nvSpPr>
        <p:spPr>
          <a:xfrm>
            <a:off x="324000" y="1773360"/>
            <a:ext cx="215640" cy="21564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324000" y="4941720"/>
            <a:ext cx="21564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24000" y="3213000"/>
            <a:ext cx="215640" cy="2160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24000" y="1773360"/>
            <a:ext cx="867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the utility function is binar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t is a predicate (or the characteristic function of a predicate rsp.)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we call it a predicate task specificatio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468360" y="105264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3" name=""/>
              <p:cNvSpPr txBox="1"/>
              <p:nvPr/>
            </p:nvSpPr>
            <p:spPr>
              <a:xfrm>
                <a:off x="2987640" y="3213000"/>
                <a:ext cx="2160720" cy="509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Ψ</m:t>
                    </m:r>
                    <m:r>
                      <m:t xml:space="preserve">:</m:t>
                    </m:r>
                    <m:r>
                      <m:t xml:space="preserve">R</m:t>
                    </m:r>
                    <m:r>
                      <m:t xml:space="preserve">→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 </m:t>
                        </m:r>
                        <m:r>
                          <m:t xml:space="preserve">1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54" name=""/>
          <p:cNvSpPr/>
          <p:nvPr/>
        </p:nvSpPr>
        <p:spPr>
          <a:xfrm>
            <a:off x="324000" y="3933720"/>
            <a:ext cx="88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Ψ(r)=1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e say 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Ψ(r)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lds“ or 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Ψ(r)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s true“ or simply „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Ψ(r)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95280" y="479736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ll runs that satisfy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Ψ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e denoted b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6" name=""/>
              <p:cNvSpPr txBox="1"/>
              <p:nvPr/>
            </p:nvSpPr>
            <p:spPr>
              <a:xfrm>
                <a:off x="971640" y="5445000"/>
                <a:ext cx="6696000" cy="55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t xml:space="preserve">r</m:t>
                        </m:r>
                        <m:r>
                          <m:t xml:space="preserve">∈</m:t>
                        </m:r>
                        <m:r>
                          <m:t xml:space="preserve">R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nv</m:t>
                        </m:r>
                        <m:r>
                          <m:t xml:space="preserve">)</m:t>
                        </m:r>
                        <m:r>
                          <m:t xml:space="preserve">∧</m:t>
                        </m:r>
                        <m:r>
                          <m:t xml:space="preserve">Ψ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396720" y="1989000"/>
            <a:ext cx="86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essimistic Definition: Agents succeeds 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468360" y="1125360"/>
            <a:ext cx="57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1676520" y="4797360"/>
                <a:ext cx="5792760" cy="89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|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r</m:t>
                        </m:r>
                        <m:r>
                          <m:t xml:space="preserve"> </m:t>
                        </m:r>
                        <m:r>
                          <m:t xml:space="preserve">∈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Ψ</m:t>
                            </m:r>
                          </m:sub>
                        </m:sSub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nv</m:t>
                        </m:r>
                        <m:r>
                          <m:t xml:space="preserve">)</m:t>
                        </m:r>
                      </m:sub>
                      <m:sup/>
                      <m:e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r</m:t>
                        </m:r>
                        <m:r>
                          <m:t xml:space="preserve">|</m:t>
                        </m:r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Env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2" name=""/>
              <p:cNvSpPr txBox="1"/>
              <p:nvPr/>
            </p:nvSpPr>
            <p:spPr>
              <a:xfrm>
                <a:off x="2092320" y="2508120"/>
                <a:ext cx="474516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3" name=""/>
          <p:cNvSpPr/>
          <p:nvPr/>
        </p:nvSpPr>
        <p:spPr>
          <a:xfrm>
            <a:off x="433440" y="313992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timistic Definition: Agents succeeds 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2224080" y="3659040"/>
                <a:ext cx="4551480" cy="5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5" name=""/>
          <p:cNvSpPr/>
          <p:nvPr/>
        </p:nvSpPr>
        <p:spPr>
          <a:xfrm>
            <a:off x="468360" y="429264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bability of succes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79280" y="1484280"/>
            <a:ext cx="867564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pecify set of Goal-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G={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...,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9   Specifying Objectives for Agents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79280" y="836640"/>
            <a:ext cx="575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Task Pred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747720" y="3860640"/>
                <a:ext cx="808020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611640" y="2131920"/>
            <a:ext cx="595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Achievement Task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„achieve goal state“)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intenance Task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„maintain goal stat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682560" y="2637000"/>
                <a:ext cx="787392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∃</m:t>
                    </m:r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∈</m:t>
                    </m:r>
                    <m:r>
                      <m:t xml:space="preserve">G</m:t>
                    </m:r>
                    <m:r>
                      <m:t xml:space="preserve">∧</m:t>
                    </m:r>
                    <m:r>
                      <m:t xml:space="preserve">e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250920" y="44370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hievement task: „Game against nature“ in game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50920" y="5013360"/>
            <a:ext cx="8675640" cy="90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Formulation of Maintenance Task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Specify set of state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B={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...,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36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}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o be avoide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841320" y="6021360"/>
                <a:ext cx="8050320" cy="47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r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(</m:t>
                    </m:r>
                    <m:r>
                      <m:t xml:space="preserve">Ψ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t xml:space="preserve">↔</m:t>
                    </m:r>
                    <m:r>
                      <m:t xml:space="preserve"> </m:t>
                    </m:r>
                    <m:r>
                      <m:t xml:space="preserve">(</m:t>
                    </m:r>
                    <m:r>
                      <m:t xml:space="preserve">∀</m:t>
                    </m:r>
                    <m:r>
                      <m:t xml:space="preserve">e</m:t>
                    </m:r>
                    <m:r>
                      <m:t xml:space="preserve">:</m:t>
                    </m:r>
                    <m:r>
                      <m:t xml:space="preserve">e</m:t>
                    </m:r>
                    <m:r>
                      <m:t xml:space="preserve">∈</m:t>
                    </m:r>
                    <m:r>
                      <m:t xml:space="preserve">r</m:t>
                    </m:r>
                    <m:r>
                      <m:t xml:space="preserve">→</m:t>
                    </m:r>
                    <m:r>
                      <m:t xml:space="preserve">e</m:t>
                    </m:r>
                    <m:r>
                      <m:t xml:space="preserve">∉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0" y="10152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1.10   Agent Syn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468360" y="1052640"/>
            <a:ext cx="867564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simple agencie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Automatic synthesis of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[1]: agents that automatically execute formal agent specification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 is declaratively implemented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yhthesis is fun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9" name=""/>
              <p:cNvSpPr txBox="1"/>
              <p:nvPr/>
            </p:nvSpPr>
            <p:spPr>
              <a:xfrm>
                <a:off x="2166840" y="2997360"/>
                <a:ext cx="4364280" cy="474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yn</m:t>
                    </m:r>
                    <m:r>
                      <m:t xml:space="preserve">: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Env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Ψ</m:t>
                        </m:r>
                      </m:e>
                    </m:d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∪</m:t>
                    </m:r>
                    <m:d>
                      <m:dPr>
                        <m:begChr m:val="{"/>
                        <m:endChr m:val="}"/>
                      </m:dPr>
                      <m:e/>
                    </m:d>
                  </m:oMath>
                </a14:m>
              </a:p>
            </p:txBody>
          </p:sp>
        </mc:Choice>
        <mc:Fallback/>
      </mc:AlternateContent>
      <p:sp>
        <p:nvSpPr>
          <p:cNvPr id="480" name=""/>
          <p:cNvSpPr/>
          <p:nvPr/>
        </p:nvSpPr>
        <p:spPr>
          <a:xfrm>
            <a:off x="468360" y="36450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ynthesis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ou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1" name=""/>
              <p:cNvSpPr txBox="1"/>
              <p:nvPr/>
            </p:nvSpPr>
            <p:spPr>
              <a:xfrm>
                <a:off x="735120" y="4076640"/>
                <a:ext cx="46018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2" name=""/>
              <p:cNvSpPr txBox="1"/>
              <p:nvPr/>
            </p:nvSpPr>
            <p:spPr>
              <a:xfrm>
                <a:off x="2268360" y="4508640"/>
                <a:ext cx="572004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83" name=""/>
          <p:cNvSpPr/>
          <p:nvPr/>
        </p:nvSpPr>
        <p:spPr>
          <a:xfrm>
            <a:off x="539640" y="5084640"/>
            <a:ext cx="43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ynthesis is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plet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84" name=""/>
              <p:cNvSpPr txBox="1"/>
              <p:nvPr/>
            </p:nvSpPr>
            <p:spPr>
              <a:xfrm>
                <a:off x="995400" y="5587920"/>
                <a:ext cx="430524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: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yn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,</m:t>
                    </m:r>
                    <m:r>
                      <m:t xml:space="preserve">Ψ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5" name=""/>
              <p:cNvSpPr txBox="1"/>
              <p:nvPr/>
            </p:nvSpPr>
            <p:spPr>
              <a:xfrm>
                <a:off x="2340000" y="6021360"/>
                <a:ext cx="571968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 {</m:t>
                    </m:r>
                    <m:r>
                      <m:t xml:space="preserve">=</m:t>
                    </m:r>
                    <m:r>
                      <m:t xml:space="preserve">⊥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Ψ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Ag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Env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Bibliography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324000" y="981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1]  M. Woolridge: „An Introduction to Multi-Agent-Systems“,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2]  G. Antoniou, F. van Harmelen: „A Semantic Web Primer“, 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MIT Press, 2004, 392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2852640"/>
            <a:ext cx="8820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3]  S. Russell, P. Norvig: „Artificial Intelligence: A Modern </a:t>
            </a:r>
            <a:br>
              <a:rPr sz="2400"/>
            </a:b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         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4] J.Schlichter, U.Borghoff: „Computer-supported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Cooperative Work“, Springer,  2000, 456 pages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5] G.Weiß (ed.): „Multi-Agent-Systems“, MIT-Press, 1999,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876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6] J. Rosenschein, Univ. of Jerusalem, Lecture Slides „Introduction to MAS“, available through </a:t>
            </a:r>
            <a:r>
              <a:rPr b="0" lang="de-DE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c.liv.ac.uk/~mjw/pubs/imas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(website for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11280" y="2637000"/>
            <a:ext cx="763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333399"/>
                </a:solidFill>
                <a:latin typeface="Arial"/>
              </a:rPr>
              <a:t>0   Introduc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333399"/>
                </a:solidFill>
                <a:latin typeface="Arial"/>
              </a:rPr>
              <a:t>Bibliography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24000" y="981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ff3300"/>
                </a:solidFill>
                <a:latin typeface="Arial"/>
              </a:rPr>
              <a:t>[6] W.Wörndl, TU-München, Lecture-slides for „Verteiltes Problemlösen“, SS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ntroduc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5280" y="119700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story of Computing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5 Important Trend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24000" y="2060640"/>
            <a:ext cx="882000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biquity……………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Mobility, Pervasiveness, deep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tegration into all-day-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connection……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Systems, Web-Services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Grid-Computing, „Global Computing“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lligence………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ing complexity of tasks, (als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ncluding AI but not necessarily)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legation…………..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hanging information cultur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computer systems „take responsibility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uman-Orientation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UIs, IDEs, Personalization, Context-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Aware Computing,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ntroduc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95280" y="105264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reasing delegation + intelligenc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s that act effective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our behalf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24000" y="2276640"/>
            <a:ext cx="88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rate independen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present best interests of user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(pursue goals, carry out tas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389736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order to maximize benefit for users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x. several such systems, each syste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s to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0920" y="5084640"/>
            <a:ext cx="88200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a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ypical: message-exchange)</a:t>
            </a: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:</a:t>
            </a:r>
            <a:br>
              <a:rPr sz="32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cooperate, coordinate, negotiat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ach agreements with other sys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3789360"/>
            <a:ext cx="820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43640" y="4581360"/>
            <a:ext cx="2521080" cy="15562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Multi-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 Agent-    </a:t>
            </a:r>
            <a:br>
              <a:rPr sz="3200"/>
            </a:b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  System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156360" y="1052640"/>
            <a:ext cx="288720" cy="2520720"/>
          </a:xfrm>
          <a:custGeom>
            <a:avLst/>
            <a:gdLst>
              <a:gd name="textAreaLeft" fmla="*/ 0 w 288720"/>
              <a:gd name="textAreaRight" fmla="*/ 104040 w 28872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156360" y="4076640"/>
            <a:ext cx="288720" cy="2521080"/>
          </a:xfrm>
          <a:custGeom>
            <a:avLst/>
            <a:gdLst>
              <a:gd name="textAreaLeft" fmla="*/ 0 w 288720"/>
              <a:gd name="textAreaRight" fmla="*/ 104040 w 288720"/>
              <a:gd name="textAreaTop" fmla="*/ 65520 h 2521080"/>
              <a:gd name="textAreaBottom" fmla="*/ 2455560 h 252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443640" y="1916280"/>
            <a:ext cx="2521080" cy="58140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  „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Agents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093080" y="616572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A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636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728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 Introduction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1640" y="981000"/>
            <a:ext cx="849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icro)    vs.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ciety Desig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MAS) (macr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936720" y="3357720"/>
            <a:ext cx="7127640" cy="362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operation emerg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societies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elf- 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interes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angu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-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munication and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-us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commun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ognition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strategy &amp; tactics,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reement vs. confli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o reach common goals (maximiz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global / local benef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55640" y="1413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472000" y="1413000"/>
            <a:ext cx="360360" cy="503280"/>
          </a:xfrm>
          <a:prstGeom prst="downArrow">
            <a:avLst>
              <a:gd name="adj1" fmla="val 50000"/>
              <a:gd name="adj2" fmla="val 34915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-360360" y="1844640"/>
            <a:ext cx="46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Book: [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032360" y="184464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lent Book: [1], + this lec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04720" y="249228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6000" y="2708280"/>
            <a:ext cx="89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MAS-question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(also rel. in Biology, Sociology, Economic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0.1 Examples for Agent Scenario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95280" y="1197000"/>
            <a:ext cx="806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pace-Scenario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Unmanned space ship near Saturn detects aberration from its course, detects system-failure in flight control system, reboots flight control system, corrects flight trajecto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3789360"/>
            <a:ext cx="88200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utonomous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ppropriate Sens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ailure de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uitable set of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141720"/>
            <a:ext cx="158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requi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2997360"/>
            <a:ext cx="792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8T08:50:29Z</dcterms:created>
  <dc:creator>Fridl Bunke</dc:creator>
  <dc:description/>
  <dc:language>en-US</dc:language>
  <cp:lastModifiedBy>georg</cp:lastModifiedBy>
  <dcterms:modified xsi:type="dcterms:W3CDTF">2006-09-19T13:12:22Z</dcterms:modified>
  <cp:revision>93</cp:revision>
  <dc:subject/>
  <dc:title>Folie 1</dc:title>
</cp:coreProperties>
</file>