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FBC10-C473-4940-99C5-09D40B9F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E759E-6910-4506-B613-1EFF94C08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C2F9-CA40-4800-A638-37B9BCEC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849F-4C35-4FD3-8D63-45649793F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B98A-848B-4E93-A1B3-8E842CEAC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5C2-3670-45F4-B687-98729AD01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000D-973B-4E64-9788-DA9B788BF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F6FB-64F9-41A5-890B-73D7B081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AFFB-4C3E-4FEB-8EF2-FE39FE31D8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82A4-10C7-4D4F-A678-C1A52E953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2F7D-06DC-4446-A5CC-EDAD30ED6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D4D-AC21-4A09-AB5C-70D65648D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76257-0207-458D-85A1-894CE8EE1B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csc.liv.ac.uk/~mjw/pubs/imas" TargetMode="External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40464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013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lides and Lecture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r. Georg Groh, TU-München, Germany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ohg@in.tum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844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se slides are based on the boo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. Woolridge „An Introduction to Multi-Agent-Systems“,  Wiley, 200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48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70828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were used in the Lecture “Verteiltes Problemlösen: Software Agenten und Semantic Web”, TU-München, Dept. of Informatics, Summ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93372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can be used for free in any academic teaching scen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72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2 Auction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628640"/>
            <a:ext cx="7921440" cy="455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common form (human worl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pen cry, first price, ascending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ominant strate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 slightly more than current bit, withdraw if bid reaches personal valuation of g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ncertain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(private or public) value of good exis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you be happy that you won the good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did the other bidders not bid more?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sibly: Although winning bid is below personal valuation of winner, the “true value” may be less than bi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“Winner’s curse”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E.g. bidding for gold-min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98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nglish A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2 Auctions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1484280"/>
            <a:ext cx="7921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Open cry, first-price, descending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 dominant strategy. Winner’s curse also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98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utch A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270828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rst-price, sealed-bid a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2637000"/>
            <a:ext cx="820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9640" y="3284640"/>
            <a:ext cx="860436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aled-bid, first-price, one 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seudo”-dominant strate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ing that others bid their true valuation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Bid less than true val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6093000"/>
            <a:ext cx="6912000" cy="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692360" y="5516640"/>
            <a:ext cx="0" cy="108108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419640" y="5516640"/>
            <a:ext cx="0" cy="108108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843280" y="5516640"/>
            <a:ext cx="0" cy="108108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932360" y="5516640"/>
            <a:ext cx="0" cy="108108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48360" y="6237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id [mone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4941720"/>
            <a:ext cx="13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id of Ag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403280" y="50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132000" y="50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i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48436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i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0" y="508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i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450864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w much les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788000" y="5229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i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rot="16200000">
            <a:off x="4064040" y="5521320"/>
            <a:ext cx="223920" cy="1512720"/>
          </a:xfrm>
          <a:custGeom>
            <a:avLst/>
            <a:gdLst>
              <a:gd name="textAreaLeft" fmla="*/ 143280 w 223920"/>
              <a:gd name="textAreaRight" fmla="*/ 224280 w 223920"/>
              <a:gd name="textAreaTop" fmla="*/ 39240 h 1512720"/>
              <a:gd name="textAreaBottom" fmla="*/ 1473480 h 151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059280" y="6381720"/>
            <a:ext cx="223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„wasted“ money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2 Auctions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79280" y="98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Vickrey A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39640" y="1628640"/>
            <a:ext cx="860436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sealed-bid, second-price, one sh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ominant strateg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ssuming that others bid their true valuation)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id true valu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26920" y="6093000"/>
            <a:ext cx="6912000" cy="0"/>
          </a:xfrm>
          <a:prstGeom prst="line">
            <a:avLst/>
          </a:prstGeom>
          <a:ln w="66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692360" y="5516640"/>
            <a:ext cx="0" cy="108108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9640" y="5516640"/>
            <a:ext cx="0" cy="108108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43280" y="5516640"/>
            <a:ext cx="0" cy="108108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932360" y="5516640"/>
            <a:ext cx="0" cy="1081080"/>
          </a:xfrm>
          <a:prstGeom prst="line">
            <a:avLst/>
          </a:prstGeom>
          <a:ln w="414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48360" y="6237360"/>
            <a:ext cx="20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id [money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4941720"/>
            <a:ext cx="133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Bid of Ag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03280" y="50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i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132000" y="5084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i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484360" y="508464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i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0" y="5084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i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716360" y="5157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winn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276720" y="5445000"/>
            <a:ext cx="8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price pai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19640" y="5300640"/>
            <a:ext cx="1512720" cy="216000"/>
          </a:xfrm>
          <a:custGeom>
            <a:avLst/>
            <a:gdLst/>
            <a:ahLst/>
            <a:rect l="l" t="t" r="r" b="b"/>
            <a:pathLst>
              <a:path w="998" h="272">
                <a:moveTo>
                  <a:pt x="0" y="272"/>
                </a:moveTo>
                <a:cubicBezTo>
                  <a:pt x="189" y="136"/>
                  <a:pt x="378" y="0"/>
                  <a:pt x="544" y="0"/>
                </a:cubicBezTo>
                <a:cubicBezTo>
                  <a:pt x="710" y="0"/>
                  <a:pt x="854" y="136"/>
                  <a:pt x="998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71640" y="3068640"/>
            <a:ext cx="727236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y?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you bid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les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your true valuatio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only decrease your chances,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but you will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not influence the pric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ou have to pay.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As in all auctions: If you bid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more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n your true valuation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you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risk winner‘s cur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4581360"/>
            <a:ext cx="237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possible antisocial behavior: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knowing bid of i6, i3 bids bid(i6)-del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2 Auctions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98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pected Reve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628640"/>
            <a:ext cx="8604360" cy="37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tioneer wants to maximize his revenue: Which auction mechanism should he choos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idder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isk neutral: All four auc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ll giv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ame reven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under certain assumption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idd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risk-aver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idders would accept to pay slightly above own true valuation)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utch and first-price-sealed-bi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x. revenu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Bidders can “insure themselves” by bidding slightly more than true val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uctione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isk aver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Vickrey &amp; English are be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2 Auctions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79280" y="155736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es and Collusion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4000" y="2349360"/>
            <a:ext cx="8604000" cy="29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llus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dder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gree beforehan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id much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low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at public value; After obtaining the good: Profit is evenly split. Countermeasure: sealed bid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ying by auctioneer: In Vickrey auc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ying about second highest bid. Countermeasures: Sign bids; trusted third par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ying by auctione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ace bogus bidder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(“shills”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tificially incre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95280" y="6524640"/>
            <a:ext cx="8497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6553080"/>
            <a:ext cx="882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3300"/>
                </a:solidFill>
                <a:latin typeface="Arial"/>
              </a:rPr>
              <a:t>()*: collusion==betrügerische Absprach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3 Negotiatio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9280" y="2421000"/>
            <a:ext cx="8604360" cy="35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got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sts of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Negotiation set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posa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can ma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toco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lega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posals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ents can make in each sit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or each agent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llection of strateg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Strategy: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Which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po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agent will make in each situation. (priva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49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ul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determines when an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reement de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reached and what this agreement deal 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8200" y="1197000"/>
            <a:ext cx="606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to be allocat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uctions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More complex situation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3 Negotiatio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50920" y="1413000"/>
            <a:ext cx="849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ngle issu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ymmet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agent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an outcome is preferred by one agent, it is guaranteed to be less preferred by other age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ultiple iss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egotiation: Values of several attributes are negotiated at the sam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4005360"/>
            <a:ext cx="84978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ultiple iss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combinations can be explored: if n Boolean variabl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binations; If n variables with m values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mbinations 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ponential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 world examples: Loan negotiations, political debates, buying a c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3 Negotiation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0920" y="1125360"/>
            <a:ext cx="849780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e-to-one negoti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symmetric preferences (e.g. buying a c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ny-to-one negoti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 a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ny-to-many negotiation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 case: n(n-1)/2 negotiation th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0920" y="1125360"/>
            <a:ext cx="8497800" cy="31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tuation: Several task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distribu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them intelligently so that efforts of each agent are minim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hildren 1 and 2 need to be taken to school; Bread and Butter need to be bought at supermarket. Good distribution: Agent “mother” takes children to school; agent “dad” buys bread and butter. Bad distribution: mother takes child 1 to school and buys bread; dad takes 2 to school and buys butt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mally: Task oriented domain (TOD) is tripl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093080" y="3675240"/>
                <a:ext cx="151128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T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1" name=""/>
          <p:cNvSpPr/>
          <p:nvPr/>
        </p:nvSpPr>
        <p:spPr>
          <a:xfrm>
            <a:off x="900000" y="4365720"/>
            <a:ext cx="8425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inite set o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possib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={1,...,n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inite set o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: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ℝ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+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Cost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executing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set of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987640" y="1595520"/>
                <a:ext cx="424836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⊆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⊆</m:t>
                    </m:r>
                    <m:r>
                      <m:t xml:space="preserve">T</m:t>
                    </m:r>
                    <m:r>
                      <m:t xml:space="preserve"> </m:t>
                    </m:r>
                    <m:r>
                      <m:t xml:space="preserve">→</m:t>
                    </m:r>
                    <m:r>
                      <m:t xml:space="preserve"> </m:t>
                    </m:r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≤</m:t>
                    </m:r>
                    <m:r>
                      <m:t xml:space="preserve">c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5" name=""/>
          <p:cNvSpPr/>
          <p:nvPr/>
        </p:nvSpPr>
        <p:spPr>
          <a:xfrm>
            <a:off x="179280" y="1052640"/>
            <a:ext cx="842508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st function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: 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T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ℝ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+  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st satisf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onotonicit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st of doing nothing is zero: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(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∅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)=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Encount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in TOD is collection of tasks initially assigned to each agen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124000" y="3213000"/>
                <a:ext cx="191304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179280" y="4292640"/>
            <a:ext cx="8498160" cy="20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rom now on: Restriction to two 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encounter 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al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assignment of task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= 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∪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or deal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gain (utility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f Agent i i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tilit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)=  c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- c(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213372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422100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Lecture 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500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50920" y="1052640"/>
            <a:ext cx="8497800" cy="67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in encount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no deal can be foun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ents must execute original tasks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. 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Θ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=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lt;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,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all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flict deal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For deal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,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 Unicode MS"/>
              </a:rPr>
              <a:t>gain (utility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of Agent i is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utilit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)=  c(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 - c(D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≻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 „de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ominate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at least as good for every agent as de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better for some agent than de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baseline="-25000">
                <a:solidFill>
                  <a:srgbClr val="ff33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≽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 „deal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weakly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ominate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δ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) if first cond. ho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1" name=""/>
              <p:cNvSpPr txBox="1"/>
              <p:nvPr/>
            </p:nvSpPr>
            <p:spPr>
              <a:xfrm>
                <a:off x="2340000" y="4581360"/>
                <a:ext cx="439272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i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tilit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≥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tilit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411280" y="5516640"/>
                <a:ext cx="4341960" cy="471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  <m:r>
                      <m:t xml:space="preserve">i</m:t>
                    </m:r>
                    <m:r>
                      <m:t xml:space="preserve">∈</m:t>
                    </m:r>
                    <m:d>
                      <m:dPr>
                        <m:begChr m:val="{"/>
                        <m:endChr m:val="}"/>
                      </m:dPr>
                      <m:e>
                        <m:r>
                          <m:t xml:space="preserve">1,2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tilit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&gt;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utilit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50920" y="1413000"/>
            <a:ext cx="8497800" cy="37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 that is not dominated by other deal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areto optim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mproves at least one agent while keeping others at least as happ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 that weakly dominates conflict deal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individual ration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If deal is not individual rational, then at least one agent is better off with conflict deal (performing original task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egal proposals (negotiation set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al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a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ar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eto optim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ndividual rat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900000" y="1413000"/>
            <a:ext cx="7391520" cy="501624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0" y="1125360"/>
            <a:ext cx="180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gotiation s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067280" y="2349360"/>
            <a:ext cx="1225440" cy="1224000"/>
          </a:xfrm>
          <a:custGeom>
            <a:avLst/>
            <a:gdLst/>
            <a:ahLst/>
            <a:rect l="l" t="t" r="r" b="b"/>
            <a:pathLst>
              <a:path w="772" h="771">
                <a:moveTo>
                  <a:pt x="0" y="0"/>
                </a:moveTo>
                <a:cubicBezTo>
                  <a:pt x="95" y="7"/>
                  <a:pt x="190" y="15"/>
                  <a:pt x="273" y="45"/>
                </a:cubicBezTo>
                <a:cubicBezTo>
                  <a:pt x="356" y="75"/>
                  <a:pt x="424" y="113"/>
                  <a:pt x="499" y="181"/>
                </a:cubicBezTo>
                <a:cubicBezTo>
                  <a:pt x="574" y="249"/>
                  <a:pt x="681" y="355"/>
                  <a:pt x="726" y="453"/>
                </a:cubicBezTo>
                <a:cubicBezTo>
                  <a:pt x="771" y="551"/>
                  <a:pt x="771" y="661"/>
                  <a:pt x="772" y="771"/>
                </a:cubicBezTo>
              </a:path>
            </a:pathLst>
          </a:custGeom>
          <a:solidFill>
            <a:srgbClr val="66ff33"/>
          </a:solidFill>
          <a:ln w="8892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40360" y="2421000"/>
            <a:ext cx="1152360" cy="1152360"/>
          </a:xfrm>
          <a:prstGeom prst="rtTriangle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258920" y="2913120"/>
            <a:ext cx="3313080" cy="1955880"/>
          </a:xfrm>
          <a:custGeom>
            <a:avLst/>
            <a:gdLst/>
            <a:ahLst/>
            <a:rect l="l" t="t" r="r" b="b"/>
            <a:pathLst>
              <a:path w="2087" h="1232">
                <a:moveTo>
                  <a:pt x="0" y="1232"/>
                </a:moveTo>
                <a:cubicBezTo>
                  <a:pt x="132" y="1032"/>
                  <a:pt x="265" y="832"/>
                  <a:pt x="499" y="643"/>
                </a:cubicBezTo>
                <a:cubicBezTo>
                  <a:pt x="733" y="454"/>
                  <a:pt x="1142" y="196"/>
                  <a:pt x="1407" y="98"/>
                </a:cubicBezTo>
                <a:cubicBezTo>
                  <a:pt x="1672" y="0"/>
                  <a:pt x="1879" y="26"/>
                  <a:pt x="2087" y="53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4920" y="4941720"/>
            <a:ext cx="2232000" cy="3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cc00"/>
                </a:solidFill>
                <a:latin typeface="Arial"/>
              </a:rPr>
              <a:t>individual rational deals in quarter circle area B-C-E</a:t>
            </a:r>
            <a:r>
              <a:rPr b="0" lang="en-US" sz="2400" spc="-1" strike="noStrike">
                <a:solidFill>
                  <a:srgbClr val="00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24000" y="1844640"/>
            <a:ext cx="84978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gotiation proceeds 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ries of ro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greement is reach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agent 1 proposes dea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 and agent 2 propos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al δ2 so that ei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ility1(δ1)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≥ utility2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2)   or   utility2(δ1) ≥ utility1(δ2) . („Proposal by other agent is at least as good as mine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ximum utility deal is chose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random if eq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either agent is able to make a legal proposa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conflict deal is chos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24000" y="105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Monotonic Concession Protocol (M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50920" y="1700280"/>
            <a:ext cx="8497800" cy="432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8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tocol is verifiable by participating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8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ventually negotiation ends (negotiation set is fini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8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gotiation may last lo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e tha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∪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= 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e hav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2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possible dea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40000"/>
              </a:lnSpc>
              <a:spcBef>
                <a:spcPts val="2849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But what is a good strategy for an agent to use if the MCP is used in the negotiation?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Zeuthe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4000" y="105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The Monotonic Concession Protocol (MC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700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Questions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sing MC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24000" y="105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uthe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258920" y="2205000"/>
            <a:ext cx="745164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should agent‘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first propos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given round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ho should conce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gent concedes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ow much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 he conce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400536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Answ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258920" y="4581360"/>
            <a:ext cx="7705800" cy="16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First proposal: His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most preferred deal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Points B and C (respectivel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o should concede: Measure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risk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each agent at given round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50920" y="17002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Risk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agent i at round 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24000" y="105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uthe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68360" y="2637000"/>
            <a:ext cx="1800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risk</a:t>
            </a:r>
            <a:r>
              <a:rPr b="0" i="1" lang="en-US" sz="2800" spc="-1" strike="noStrike" baseline="30000">
                <a:solidFill>
                  <a:srgbClr val="000000"/>
                </a:solidFill>
                <a:latin typeface="Times New Roman"/>
              </a:rPr>
              <a:t>t</a:t>
            </a:r>
            <a:r>
              <a:rPr b="0" i="1" lang="en-US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908000" y="2492280"/>
            <a:ext cx="705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 i loses by conceding and accepting j‘s off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873080" y="2924280"/>
            <a:ext cx="727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ty i loses by not conceding and causing confli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55640" y="3573360"/>
            <a:ext cx="82090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ince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tility(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Θ)=cons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we can set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utility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(Θ)=0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so t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908000" y="2924280"/>
            <a:ext cx="5832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900000" y="4221000"/>
                <a:ext cx="7201080" cy="140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risk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t</m:t>
                        </m:r>
                      </m:sup>
                    </m:sSubSup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if</m:t>
                              </m:r>
                              <m:r>
                                <m:t xml:space="preserve"> </m:t>
                              </m:r>
                              <m:sSub>
                                <m:e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utility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</m:sSub>
                              <m:r>
                                <m:t xml:space="preserve">(</m:t>
                              </m:r>
                              <m:sSubSup>
                                <m:e>
                                  <m:r>
                                    <m:t xml:space="preserve">δ</m:t>
                                  </m:r>
                                </m:e>
                                <m:sub>
                                  <m:r>
                                    <m:t xml:space="preserve">i</m:t>
                                  </m:r>
                                </m:sub>
                                <m:sup>
                                  <m:r>
                                    <m:t xml:space="preserve">t</m:t>
                                  </m:r>
                                </m:sup>
                              </m:sSubSup>
                              <m:r>
                                <m:t xml:space="preserve">)</m:t>
                              </m:r>
                              <m:r>
                                <m:t xml:space="preserve">=</m:t>
                              </m:r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f>
                                <m:num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tilit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  <m:r>
                                    <m:t xml:space="preserve">)</m:t>
                                  </m:r>
                                  <m:r>
                                    <m:t xml:space="preserve">−</m:t>
                                  </m:r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tilit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j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  <m:r>
                                    <m:t xml:space="preserve">)</m:t>
                                  </m:r>
                                </m:num>
                                <m:den>
                                  <m:sSub>
                                    <m:e>
                                      <m:r>
                                        <m:rPr>
                                          <m:lit/>
                                          <m:nor/>
                                        </m:rPr>
                                        <m:t xml:space="preserve">utility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</m:sSub>
                                  <m:r>
                                    <m:t xml:space="preserve">(</m:t>
                                  </m:r>
                                  <m:sSubSup>
                                    <m:e>
                                      <m:r>
                                        <m:t xml:space="preserve">δ</m:t>
                                      </m:r>
                                    </m:e>
                                    <m:sub>
                                      <m:r>
                                        <m:t xml:space="preserve">i</m:t>
                                      </m:r>
                                    </m:sub>
                                    <m:sup>
                                      <m:r>
                                        <m:t xml:space="preserve">t</m:t>
                                      </m:r>
                                    </m:sup>
                                  </m:sSubSup>
                                  <m:r>
                                    <m:t xml:space="preserve">)</m:t>
                                  </m:r>
                                </m:den>
                              </m:f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otherwise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99" name=""/>
          <p:cNvSpPr/>
          <p:nvPr/>
        </p:nvSpPr>
        <p:spPr>
          <a:xfrm>
            <a:off x="324000" y="5950080"/>
            <a:ext cx="84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Who should concede: Agent with lower ris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50920" y="1700280"/>
            <a:ext cx="8497800" cy="28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How muc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hould be conceded?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“Just enough”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o change balance of risk on next round. If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not enoug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conced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on next round same agent will have to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concede again (inefficient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If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too much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conceded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loss of ut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Extension to Zeuthen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equal risk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cide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ho is to concede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random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24000" y="105264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Zeuthe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24000" y="4437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perties of Zeuthe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16000" y="5013360"/>
            <a:ext cx="7201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Guaranteed success: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Guaranteed Termination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Maximizes social welfare: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10526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roperties of Zeuthen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39640" y="1844640"/>
            <a:ext cx="831708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Pareto optimal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agreement is reached,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Indicidual rational: Y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Single point of failure: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Stability: Yes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Zeuthen strategy (with equal risk rule) is in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Nash equilibrium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Under the assumption that other agent uses it, one can do no better than also using it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strategy should be published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y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Task Oriented Domains 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79280" y="10526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hea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1844640"/>
            <a:ext cx="831708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Phantom tasks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“appear busier than you really are”. Pretend you have tasks that you don’t really have. Countermeasure: Verifiable ta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Hidden tasks: Counter-intuitively: Hiding some tasks from other agents can also be benefici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Deception and countermeasures: see [5] for examp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2565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6 Reaching Agre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Worth Oriented Domain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0920" y="981000"/>
            <a:ext cx="8316720" cy="266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stead of distributing tasks: (collaboratively) reach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environment stat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ith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greatest wort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nts try to reach valuable states by negotiating and executing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joint plans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Formally: A WOD is a 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7" name=""/>
              <p:cNvSpPr txBox="1"/>
              <p:nvPr/>
            </p:nvSpPr>
            <p:spPr>
              <a:xfrm>
                <a:off x="4500720" y="3141720"/>
                <a:ext cx="188100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r>
                          <m:t xml:space="preserve">E</m:t>
                        </m:r>
                        <m:r>
                          <m:t xml:space="preserve">,</m:t>
                        </m:r>
                        <m:r>
                          <m:rPr>
                            <m:lit/>
                            <m:nor/>
                          </m:rPr>
                          <m:t xml:space="preserve">Ag</m:t>
                        </m:r>
                        <m:r>
                          <m:t xml:space="preserve">,</m:t>
                        </m:r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c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18" name=""/>
          <p:cNvSpPr/>
          <p:nvPr/>
        </p:nvSpPr>
        <p:spPr>
          <a:xfrm>
            <a:off x="826920" y="3789360"/>
            <a:ext cx="7777440" cy="29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inite set o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possible environment st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={1,...,n}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Finite set o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possible joint plan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plan (action sequence) that transforms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to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writte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: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⇝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c: J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ℝ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Cost function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c(j,i):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cost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ag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executing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l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4 Negotiation: Worth Oriented Domain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5359320" y="1125360"/>
                <a:ext cx="1141560" cy="617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⟨"/>
                        <m:endChr m:val="⟩"/>
                      </m:dPr>
                      <m:e>
                        <m:sSub>
                          <m:e>
                            <m:r>
                              <m:t xml:space="preserve">e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,</m:t>
                        </m:r>
                        <m:r>
                          <m:t xml:space="preserve">W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22" name=""/>
          <p:cNvSpPr/>
          <p:nvPr/>
        </p:nvSpPr>
        <p:spPr>
          <a:xfrm>
            <a:off x="900000" y="1916280"/>
            <a:ext cx="7777440" cy="153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∊</a:t>
            </a:r>
            <a:r>
              <a:rPr b="0" i="1" lang="en-US" sz="3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initial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environment st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: 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g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ℝ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Worth function.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W(e,i)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worth of environment sta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for agent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1268280"/>
            <a:ext cx="831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encounter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a WOD is a tuple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50920" y="3716280"/>
            <a:ext cx="831672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agent operates alon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nd finds pla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 negotiation necessary, just execute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  <a:ea typeface="Arial Unicode MS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  <a:ea typeface="Arial Unicode MS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4653000"/>
            <a:ext cx="4608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400" spc="-1" strike="noStrike" baseline="-25000">
                <a:solidFill>
                  <a:srgbClr val="000000"/>
                </a:solidFill>
                <a:latin typeface="Times New Roman"/>
              </a:rPr>
              <a:t>opt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=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rgmax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   (W(i,e) – C(j,i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521520" y="4941720"/>
            <a:ext cx="12733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∊J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: e</a:t>
            </a:r>
            <a:r>
              <a:rPr b="0" i="1" lang="en-US" sz="20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⇝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4000" y="558972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n a MAS: Further improvements possible through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joint plan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if conflict in best interest state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5 Argumentatio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24000" y="1125360"/>
            <a:ext cx="831672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Negotiation Mechanisms we have seen so far have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disadvantage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Positions cannot be justified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t cannot be explained </a:t>
            </a: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how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agreement was reached. (E.g. to a human that ordered the agent to do sth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Positions cannot be changed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tility function does not change.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nflexible (Humans can change their minds during negoti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Argumentation-based negot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 will first take a “semiformal” look on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human argumentation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5 Argumentatio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24000" y="1125360"/>
            <a:ext cx="831672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rudely: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Argumentatio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the process of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convincing other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about truth (or falsity) of a state of affai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ilbert: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Four modes of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Logical mod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Akin to logical proof (deduction chain) (In science, law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Emotional mod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Uses appeals towards emotions, attitudes. (E.g. “How would you feel if ...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Visceral mod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Uses physical and social aspects. (E.g.: “I am older, stronger etc. ...so what I say must be tru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Kisceral mode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: Appeals to the intuitive, mystical, religi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5 Argumentation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95280" y="1700280"/>
            <a:ext cx="831708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nstruct a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proof for or against proposition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f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Formally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educe sentence from a database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: Δ ⊢ 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ell known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examp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105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gic based arg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2411280" y="3357720"/>
            <a:ext cx="3743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(socrates)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∀x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uman(x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rtal(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084720" y="3357720"/>
            <a:ext cx="216000" cy="863280"/>
          </a:xfrm>
          <a:custGeom>
            <a:avLst/>
            <a:gdLst>
              <a:gd name="textAreaLeft" fmla="*/ 0 w 216000"/>
              <a:gd name="textAreaRight" fmla="*/ 78120 w 216000"/>
              <a:gd name="textAreaTop" fmla="*/ 22320 h 863280"/>
              <a:gd name="textAreaBottom" fmla="*/ 840960 h 86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227640" y="3500280"/>
            <a:ext cx="6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68360" y="422100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tal(socrat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84720" y="4222800"/>
            <a:ext cx="216000" cy="501480"/>
          </a:xfrm>
          <a:custGeom>
            <a:avLst/>
            <a:gdLst>
              <a:gd name="textAreaLeft" fmla="*/ 0 w 216000"/>
              <a:gd name="textAreaRight" fmla="*/ 78120 w 216000"/>
              <a:gd name="textAreaTop" fmla="*/ 12960 h 501480"/>
              <a:gd name="textAreaBottom" fmla="*/ 488520 h 50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227640" y="4149720"/>
            <a:ext cx="648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11280" y="4221000"/>
            <a:ext cx="3673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32720" y="3213000"/>
            <a:ext cx="287280" cy="1584360"/>
          </a:xfrm>
          <a:custGeom>
            <a:avLst/>
            <a:gdLst>
              <a:gd name="textAreaLeft" fmla="*/ 0 w 287280"/>
              <a:gd name="textAreaRight" fmla="*/ 103680 w 28728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022520" y="3763800"/>
            <a:ext cx="121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⊢ 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95280" y="49417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f subse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Γ of database suffices to deduce sentence φ we call this subset „Grounds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264840" y="5954760"/>
            <a:ext cx="211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Γ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Δ:   Γ ⊢ 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5 Argumentation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105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gic based arg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920" y="1700280"/>
            <a:ext cx="8280360" cy="490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call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ir of grounds and sentenc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&lt;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Γ,φ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rgu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v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lt;Γ,φ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calle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non-trivi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Γ is consistent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Γ is inconsist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verything can be deduced (ex falso quodlibet)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gumentation is trivi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two proposition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φ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e say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φ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attack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φ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≡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rgument &lt;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,φ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 b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eat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wo w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lt;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,φ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rebut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&lt;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,φ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gt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tacks 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lt;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,φ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gt;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undercut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&lt;Γ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,φ</a:t>
            </a:r>
            <a:r>
              <a:rPr b="0" lang="en-US" sz="2400" spc="-1" strike="noStrike" baseline="-25000">
                <a:solidFill>
                  <a:srgbClr val="ff33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φ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ttack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ψ for so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  ψ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Γ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7667640" y="4149720"/>
            <a:ext cx="216000" cy="71280"/>
            <a:chOff x="7667640" y="4149720"/>
            <a:chExt cx="216000" cy="71280"/>
          </a:xfrm>
        </p:grpSpPr>
        <p:sp>
          <p:nvSpPr>
            <p:cNvPr id="254" name=""/>
            <p:cNvSpPr/>
            <p:nvPr/>
          </p:nvSpPr>
          <p:spPr>
            <a:xfrm>
              <a:off x="7667640" y="4149720"/>
              <a:ext cx="21600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883640" y="4149720"/>
              <a:ext cx="0" cy="71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5 Argumentation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50920" y="1052640"/>
            <a:ext cx="53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ogic based arg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0920" y="1700280"/>
            <a:ext cx="8280360" cy="491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fferent views on the world automatically create contradictions between propositions in different agent‘s database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f propositions are communicated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 agent‘s database may become inconsisten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classical logics a severe problem)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reate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ierarchy of acceptability of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1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of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l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guments 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A2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all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  <a:ea typeface="Arial"/>
              </a:rPr>
              <a:t>non-trivi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arguments ov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3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of all arguments over Δ with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rebu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3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of all arguments over Δ with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 undercutting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gu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3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of all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autological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rguments over Δ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ceptability-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Hierarchy: </a:t>
            </a:r>
            <a:br>
              <a:rPr sz="2000"/>
            </a:b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1(Δ) ≼ A2(Δ) ≼ A3(Δ) ≼ A4(Δ) ≼ A5(Δ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988400" y="6254640"/>
            <a:ext cx="1117440" cy="520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amples: see [1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5 Argumentation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50920" y="1557360"/>
            <a:ext cx="8316720" cy="586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r interest: not argumentation with self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consistency check of database) but rather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dialogue with other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Formally: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step in a dialogue between two agents (“0” and “1”) is called a </a:t>
            </a:r>
            <a:r>
              <a:rPr b="0" i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move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.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 move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pair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&lt;agent, argument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sequence &lt;m_0, m_1, m_2, ...., m_k&gt;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called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dialogue history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nt(m_0)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5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gent(m_i) = 0  iff  i  is even  and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(m_i) = 1  iff  i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is odd. (alternating dialogu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are not allowed to make argument tw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7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(m_i) defeats argument(m_i -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95280" y="98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5 Argumentation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5280" y="1700280"/>
            <a:ext cx="83170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Example: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_0 = (0,  &lt;r, {p, 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, q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r}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_1 = (1,  &lt;¬(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q), {t, t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¬(p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)}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_2 = (0,  &lt;¬t, {s, s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¬t}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95280" y="98100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log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5 Argumentation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87280" y="1700280"/>
            <a:ext cx="89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ype              Initial situation             Main goal                      Participants ai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95280" y="98100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logue Types (Walton and Krabb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2276640"/>
            <a:ext cx="9217080" cy="441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suation     conflict of opinions      resolve the issue          persuad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the 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otiation    conflict of interests      make a deal                  get the bes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for onesel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quiry           general ignorance       growth of knowledge     find a pro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liberation   need for action            reach a decision           influenc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outco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ation    personal ignorance     spread knowledge         gain or pass seeking                                                                                    knowled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ristics          conflict / antagonism    reaching an                   strike the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accommodation            other par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ed            variou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rious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08000" y="2851200"/>
            <a:ext cx="885672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08000" y="2131920"/>
            <a:ext cx="885672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108000" y="1627200"/>
            <a:ext cx="8856720" cy="1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08000" y="4003560"/>
            <a:ext cx="8856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08000" y="3500280"/>
            <a:ext cx="885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8000" y="6451560"/>
            <a:ext cx="8856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08000" y="4651200"/>
            <a:ext cx="885672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08000" y="5300640"/>
            <a:ext cx="885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08000" y="5950080"/>
            <a:ext cx="8856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1800360" y="2131920"/>
            <a:ext cx="0" cy="43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248000" y="2131920"/>
            <a:ext cx="0" cy="43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840360" y="2058840"/>
            <a:ext cx="0" cy="431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08000" y="1628640"/>
            <a:ext cx="0" cy="482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964720" y="1628640"/>
            <a:ext cx="0" cy="4824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 Reaching Agre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341360"/>
            <a:ext cx="8064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treme cas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MAS encounter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zero-sum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Profit only at expense of oth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Norma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Win-win-situation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(Mutually beneficial agreement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possi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aching Agree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fundamenta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social intelligence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ociety build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gene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Reaching Agreement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Negoti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rg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Issu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n Negotia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: Protocols, mechanisms, strateg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5 Argumentation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24000" y="1125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tract Arg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95280" y="2060640"/>
            <a:ext cx="820908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odeling interest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tructu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bstract argumentation: Pair &lt;X,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set of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rgume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⊆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X x X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 binary relation on arguments representing the notion of 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attack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terest: define when a set of arguments is admissable („safe“, „acceptable“, mutually defensive, cannot be attack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5 Argumentation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4000" y="1125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tract Argu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179280" y="1773360"/>
            <a:ext cx="874872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bstract argumentation &lt;X,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a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 x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 X is</a:t>
            </a: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attacked by a set of arguments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Y ⊆ X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f ∃y: y ∈ Y  ∧  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x   (at least one member of Y attacks 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An argumen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i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acceptable with respect to a set of argum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⊆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 if every attacker of x in Y is also att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et of arguments Y i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onflict fre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 argument in Y attacks some other argument in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nflict free set of arguments Y i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admissibl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each argument in Y is acceptable with respect to 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" descr=""/>
          <p:cNvPicPr/>
          <p:nvPr/>
        </p:nvPicPr>
        <p:blipFill>
          <a:blip r:embed="rId1"/>
          <a:stretch/>
        </p:blipFill>
        <p:spPr>
          <a:xfrm>
            <a:off x="0" y="1700280"/>
            <a:ext cx="7010280" cy="468000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5 Argumentation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24000" y="1125360"/>
            <a:ext cx="52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bstract Argumentation: 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796000" y="981000"/>
            <a:ext cx="31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Y={a,b,c,d,e,f,g,h,i,j,k,l,m,n,o,p,q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341440" y="6021360"/>
            <a:ext cx="574920" cy="432000"/>
          </a:xfrm>
          <a:prstGeom prst="ellipse">
            <a:avLst/>
          </a:prstGeom>
          <a:noFill/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380360" y="1916280"/>
            <a:ext cx="176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Arial"/>
              </a:rPr>
              <a:t>acceptable wrt.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020000" y="2997360"/>
            <a:ext cx="574560" cy="431640"/>
          </a:xfrm>
          <a:prstGeom prst="ellipse">
            <a:avLst/>
          </a:prstGeom>
          <a:noFill/>
          <a:ln w="47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7416720" y="2708280"/>
            <a:ext cx="176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not acceptable wrt.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516720" y="5300640"/>
            <a:ext cx="574560" cy="432000"/>
          </a:xfrm>
          <a:prstGeom prst="ellipse">
            <a:avLst/>
          </a:prstGeom>
          <a:noFill/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021440" y="2060640"/>
            <a:ext cx="574920" cy="431640"/>
          </a:xfrm>
          <a:prstGeom prst="ellipse">
            <a:avLst/>
          </a:prstGeom>
          <a:noFill/>
          <a:ln w="475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8000" y="3933720"/>
            <a:ext cx="574560" cy="432000"/>
          </a:xfrm>
          <a:prstGeom prst="ellipse">
            <a:avLst/>
          </a:prstGeom>
          <a:noFill/>
          <a:ln w="47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643280" y="5013360"/>
            <a:ext cx="574920" cy="431640"/>
          </a:xfrm>
          <a:prstGeom prst="ellipse">
            <a:avLst/>
          </a:prstGeom>
          <a:noFill/>
          <a:ln w="47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797440" y="4581360"/>
            <a:ext cx="574920" cy="432000"/>
          </a:xfrm>
          <a:prstGeom prst="ellipse">
            <a:avLst/>
          </a:prstGeom>
          <a:noFill/>
          <a:ln w="475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bliography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24000" y="981000"/>
            <a:ext cx="88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1]  M. Woolridge: „An Introduction to Multi-Agent-Systems“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ey, 2001, 294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2]  G. Antoniou, F. van Harmelen: „A Semantic Web Primer“,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IT Press, 2004, 392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4000" y="2852640"/>
            <a:ext cx="882000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3]  S. Russell, P. Norvig: „Artificial Intelligence: A Modern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Approach“, Prentice-Hall, 1995, 99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4] J.Schlichter, U.Borghoff: „Computer-support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operative Work“, Springer,  2000, 456 p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5] G.Weiß (ed.): „Multi-Agent-Systems“, MIT-Press, 1999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76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6] J. Rosenschein, Univ. of Jerusalem, Lecture Slides „Introduction to MAS“, available through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sc.liv.ac.uk/~mjw/pubs/ima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(website for 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bliography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4000" y="981000"/>
            <a:ext cx="882000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6] W.Wörndl, TU-München, Lecture-slides for „Verteiltes Problemlösen“, SS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7] M.Richter „Prinzipien der künstlichen Intelligenz“, Teubner, 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8] A.Rao, M.Georgeff: „Modeling Rational Agents within a BDI-Architecture“, Proc. Knowledge Represenation and Reasoning KR&amp;R 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1 Mechanism Design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125360"/>
            <a:ext cx="8064360" cy="28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Mechanism design: Design of protocol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ith certai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desirable propert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xample property in communication protocols: Provably free of Deadlock, Livel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1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gotiation protocols for MA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dditional or slightly alter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sired proper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26920" y="4365720"/>
            <a:ext cx="813780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uaranteed succes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ert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Maximizing social welfar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reemen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ximizes sum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of utiliti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all participating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 </a:t>
            </a:r>
            <a:r>
              <a:rPr b="0" lang="en-US" sz="16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next sli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1 Mechanism Desig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1052640"/>
            <a:ext cx="8137800" cy="59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areto efficienc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f there exis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 o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greement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which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reases utility of at least one ag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hil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decreasing the utility of the other ag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Individual Rational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protocol is 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st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interest of all ag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no incentive to cheat, deviate from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protocol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tabil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gives agent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centive to behave in a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certain wa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.g. by establishing Nash-Eq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implicit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makes for the agent appropriat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strategy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„obvious“.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Agent can tractably determin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optimal strateg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stribution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 single point of failur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; minimiz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2 Auction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981000"/>
            <a:ext cx="8748720" cy="58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9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ctions are simpl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asy to impl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uction == (Auctioneer, Bidders, Good);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Goal(Auctioneer) == maximize pr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good;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Goal(Bidders) == minimize pri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or good;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  Each bidder h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ersonal price maximum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personal valuation of goo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uctioneer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ies to reach goal by choosing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ppropriate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 auction mechanism;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Bidder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y to reach goal by choosing appropriat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95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uctions differ by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Winner determin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Secrecy of bid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333399"/>
              </a:buClr>
              <a:buSzPct val="20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Arial"/>
              </a:rPr>
              <a:t>Auc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2 Auction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3357720"/>
            <a:ext cx="874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401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od h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rrelated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alue of good depends on own private value and private value for other agents. (E.g.: Buy sth. with intention to sell it late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4724280"/>
            <a:ext cx="820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611280" y="1628640"/>
            <a:ext cx="792144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ha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ublic (common) valu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Good has the same value for all bidders. (E.g.: One-Dollar-Bil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ha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private valu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has different value for each agent. (E.g.: Grandpa’s soc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98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Good‘s 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79280" y="479736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Winner determ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5373720"/>
            <a:ext cx="7921800" cy="13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rst pr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ighest bid wins, Winner pays his b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cond pri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Highest bid wins. Winner pays second-highest bi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6.2 Auction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2852640"/>
            <a:ext cx="820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11280" y="1628640"/>
            <a:ext cx="7921440" cy="95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en cr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ll agent’s know all agent’s bid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aled bi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No agent knows other agent’s b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981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Secrecy of b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95280" y="3789360"/>
            <a:ext cx="792180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ne sho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Only one bidding 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scendin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ctioneer begins at minimum price, bidders increase bi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49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scend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Auctioneer begins at price over value of good and lowers the price at each rou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30686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uction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37:50Z</dcterms:created>
  <dc:creator>Fridl Bunke</dc:creator>
  <dc:description/>
  <dc:language>en-US</dc:language>
  <cp:lastModifiedBy>georg</cp:lastModifiedBy>
  <dcterms:modified xsi:type="dcterms:W3CDTF">2006-09-19T13:13:50Z</dcterms:modified>
  <cp:revision>189</cp:revision>
  <dc:subject/>
  <dc:title>Folie 1</dc:title>
</cp:coreProperties>
</file>